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467-7049-4296-8031-6C8674CF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A7D-3112-44FB-9723-085553B4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9D8-70EE-4738-BDBA-EA7FD4FB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4ED-B5EF-4E4E-BE46-181B072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848-8703-4D79-823F-0B74512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4F0-6DBA-44F5-A7BF-8809FBB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D03-A5AA-4F03-8A6F-5F6F302B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4BD-3BBD-4EF1-BCF2-FFA2A6D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76F-C050-49AD-8D52-3589BFA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87D-55AF-43C6-8F54-5F109F6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46D-A838-43F2-98CE-1CE6481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FC1-0714-4568-A842-BC23520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6B7-663C-446A-B966-F787DA246DF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3051800">
            <a:off x="1762920" y="835560"/>
            <a:ext cx="8506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omic Sans MS"/>
              </a:rPr>
              <a:t>KORIST OD Š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4248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484280"/>
            <a:ext cx="8713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ume: – stanište i hrana životin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ječu na klimu nekog područ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rodni pročistači zraka i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čavaju eroz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jesto za rekreaciju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–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ječa drva za ogrjev, izradu namještaja, glazbe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ata, papira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sko gospodarenje šumama: – sje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mlađivanje (prirodno 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jet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159080" y="-1630440"/>
            <a:ext cx="8506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ORIST OD Š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3:32:09Z</dcterms:created>
  <dc:creator>user</dc:creator>
  <dc:description/>
  <dc:language>en-US</dc:language>
  <cp:lastModifiedBy>user</cp:lastModifiedBy>
  <dcterms:modified xsi:type="dcterms:W3CDTF">2009-11-09T15:50:01Z</dcterms:modified>
  <cp:revision>1</cp:revision>
  <dc:subject/>
  <dc:title>Slide 1</dc:title>
</cp:coreProperties>
</file>