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9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05C0-87A6-4A88-A650-1251C1427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AA75-5E22-4AFD-A15E-F98948360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D69D-2C03-4702-96CC-B04E858FB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108A-72E4-4F8B-B592-43A243518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3A015-FC3E-428E-A39C-0CE2FB22B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FD142-111B-4A36-92E6-3225213C9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56A08-9431-4DA4-9B97-748CBD767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857F3-C1E8-4B24-80E3-70E6DC489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577F2-8260-4B8F-9418-B15705D7C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FEFE5-41D4-42F2-B952-837DDACB4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BEA19-282E-43E0-B06D-D9E9F7392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720C-B0F8-44A3-A591-EE82C73D0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51759-E1D8-4122-B92A-F6C1013FD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DD880-71F9-497B-A37F-0B24C28B5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244FD-2532-4D9C-9450-F2012B99E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DF540-F463-41F4-8188-0E4FFD405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A5420-03C2-42F8-B9D4-1B0C06B1D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48DA2-FB20-4DD3-AB9D-62FC75576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9DA6A-19CB-489F-BEB3-E61A18FE3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21752-499C-4E03-B288-0D0627540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EF8FD-DC52-49F7-BF27-8405A9D2C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D70C5-EBDE-4B59-A9A1-0B7187B99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AF4A-DCCB-47D5-9A0C-E781E8962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6592D-CE50-4E39-955C-E31561EA3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4A7C7-92C3-4175-8BFB-6B8116A18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BD84D-6601-4BE2-B3AA-8C431C4F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E5FD3-3296-4112-89FC-E7056277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D43C8-A170-4B85-A7EA-82660B7D4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B8C78-4699-4F11-8112-DB99DE127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3E6DD-D3F7-4C25-B902-D41EA7294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92F5-C97D-4D18-A986-CBDE6C561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A1AB-BD2C-4939-B212-71F48EF2B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D153-F491-40CF-9C5A-CB3253A1D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D6CF-53F3-47CB-8821-740296CA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DA12-E855-4426-AE06-E335DA726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7F26-1656-4399-8010-C9E142FE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bff75"/>
            </a:gs>
            <a:gs pos="50000">
              <a:srgbClr val="ffffff"/>
            </a:gs>
            <a:gs pos="100000">
              <a:srgbClr val="dbff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D987F-D7B4-4EEF-819A-209D52CD29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bff75"/>
            </a:gs>
            <a:gs pos="50000">
              <a:srgbClr val="ffffff"/>
            </a:gs>
            <a:gs pos="100000">
              <a:srgbClr val="dbff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42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FB69E-31DC-4EB8-91DD-AE28475CE04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bff75"/>
            </a:gs>
            <a:gs pos="50000">
              <a:srgbClr val="ffffff"/>
            </a:gs>
            <a:gs pos="100000">
              <a:srgbClr val="dbff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89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A054B-428B-4AA5-BFF0-26E20ABD8E0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bff75"/>
            </a:gs>
            <a:gs pos="50000">
              <a:srgbClr val="ffffff"/>
            </a:gs>
            <a:gs pos="100000">
              <a:srgbClr val="dbff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42000" y="2133720"/>
            <a:ext cx="86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iši što sve vidiš na putu od kuće do ško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8360" y="314172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žeš li na putu sresti de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Zaš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74400" y="4510080"/>
            <a:ext cx="8774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oje životinje možeš sresti na putu do škol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bjasni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" dur="1" fill="hold"/>
                                  <p:tgtEl>
                                    <p:spTgt spid="1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bff75"/>
            </a:gs>
            <a:gs pos="50000">
              <a:srgbClr val="ffffff"/>
            </a:gs>
            <a:gs pos="100000">
              <a:srgbClr val="dbff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4360" y="774720"/>
            <a:ext cx="2232000" cy="1744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179280" y="2646360"/>
            <a:ext cx="2951280" cy="21286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3276720" y="703440"/>
            <a:ext cx="2736720" cy="18205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6372360" y="703440"/>
            <a:ext cx="2233440" cy="17985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920160" y="187920"/>
            <a:ext cx="739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ŽIVA BIĆA, NJIHOVA STANIŠTA I ŽIVOTNI UVJE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94960" y="5229360"/>
            <a:ext cx="60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ŽIVOTNI UVJETI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zrak, voda, svjetlost, temperatura, t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6320" y="5805360"/>
            <a:ext cx="481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Živa bića su prilagođena životnim uvjeti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6156360" y="2637000"/>
            <a:ext cx="2736720" cy="21621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6"/>
          <a:stretch/>
        </p:blipFill>
        <p:spPr>
          <a:xfrm>
            <a:off x="3276720" y="2620800"/>
            <a:ext cx="273672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6000"/>
                            </p:stCondLst>
                            <p:childTnLst>
                              <p:par>
                                <p:cTn id="4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8000"/>
                            </p:stCondLst>
                            <p:childTnLst>
                              <p:par>
                                <p:cTn id="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bff75"/>
            </a:gs>
            <a:gs pos="50000">
              <a:srgbClr val="ffffff"/>
            </a:gs>
            <a:gs pos="100000">
              <a:srgbClr val="dbff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787200" y="3068640"/>
            <a:ext cx="186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ustinjska lis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51120" y="2781360"/>
            <a:ext cx="159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larna lis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46160" y="609300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i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941160" y="2997360"/>
            <a:ext cx="198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slačak otva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vjet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688080" y="6491160"/>
            <a:ext cx="20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jeverni medvj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008600" y="649116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rki medvj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732720" y="0"/>
            <a:ext cx="2243160" cy="29527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792600" cy="27860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2916360" y="260280"/>
            <a:ext cx="3671640" cy="27608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179280" y="3716280"/>
            <a:ext cx="3025800" cy="23749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4643280" y="3645000"/>
            <a:ext cx="4238640" cy="28000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6"/>
          <a:stretch/>
        </p:blipFill>
        <p:spPr>
          <a:xfrm>
            <a:off x="3564000" y="3645000"/>
            <a:ext cx="27828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4000"/>
                            </p:stCondLst>
                            <p:childTnLst>
                              <p:par>
                                <p:cTn id="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6000"/>
                            </p:stCondLst>
                            <p:childTnLst>
                              <p:par>
                                <p:cTn id="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8000"/>
                            </p:stCondLst>
                            <p:childTnLst>
                              <p:par>
                                <p:cTn id="8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0"/>
                            </p:stCondLst>
                            <p:childTnLst>
                              <p:par>
                                <p:cTn id="8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bff75"/>
            </a:gs>
            <a:gs pos="50000">
              <a:srgbClr val="ffffff"/>
            </a:gs>
            <a:gs pos="100000">
              <a:srgbClr val="dbff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261520" y="5229360"/>
            <a:ext cx="452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skrivljeni rast drveća zbog jakih vjetro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55640" y="54936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ilagodba – obilježje u građi organizma ili način života korisni za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eživljav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195640" y="2276640"/>
            <a:ext cx="453384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bff75"/>
            </a:gs>
            <a:gs pos="50000">
              <a:srgbClr val="ffffff"/>
            </a:gs>
            <a:gs pos="100000">
              <a:srgbClr val="dbff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864960" y="5661000"/>
            <a:ext cx="14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ijeka M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0000" y="620640"/>
            <a:ext cx="887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NIŠTE = mjesto gdje živa bića obitavaju i gdje djeluju životni uvjeti: šum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ivada, more, b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124000" y="2060640"/>
            <a:ext cx="47912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4:33:29Z</dcterms:created>
  <dc:creator>user</dc:creator>
  <dc:description/>
  <dc:language>en-US</dc:language>
  <cp:lastModifiedBy>user</cp:lastModifiedBy>
  <dcterms:modified xsi:type="dcterms:W3CDTF">2009-11-09T15:47:34Z</dcterms:modified>
  <cp:revision>6</cp:revision>
  <dc:subject/>
  <dc:title>Slide 1</dc:title>
</cp:coreProperties>
</file>