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D79-33B5-4724-80DD-C7E56F45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58F-2C41-4BFE-96D0-41744A05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B7F-4539-4CD8-AA76-28C675D2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1B9-365F-4323-8F0C-C4CA31EE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E3E-F471-43D6-BBF2-FBD8979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66F-5BF2-4300-8BF0-4FBE721A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1FC-3E84-4780-85D5-ADE34E8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465-8E7C-466A-9F24-082A9312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E08-5AAF-4766-B045-9E8411E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9BA-01D6-4CEF-B244-4E3E318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FE6-A404-48E9-BBB6-11CB554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7AC-304A-4FF1-9CF1-6DA4C06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729-DE5F-4AF7-9B9B-DE5485D03C8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ANIDBENI ODNOSI I PRIRODNA RAVNOTEŽA U ŠUM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83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7080" y="3068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306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3068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3760" y="44280"/>
            <a:ext cx="43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ANIDBENI L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960" y="41497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izvođ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560" y="3789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6920" y="47242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4797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roš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3068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20280" y="41497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zlag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96360" y="2637000"/>
            <a:ext cx="1547640" cy="147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162080" cy="183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60720" y="270828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995640" y="1916280"/>
            <a:ext cx="9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2060640"/>
            <a:ext cx="10573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9440" y="18900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ANIDBENA MR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65720"/>
            <a:ext cx="84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še hranidbenih lanaca povezanih preko zajedničkih čl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2133720"/>
            <a:ext cx="1079640" cy="79056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93080" y="4005000"/>
            <a:ext cx="792000" cy="36036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2349360"/>
            <a:ext cx="1079640" cy="79056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3500280"/>
            <a:ext cx="936720" cy="64800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948360" y="3789000"/>
            <a:ext cx="792360" cy="4316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1989000"/>
            <a:ext cx="1152720" cy="792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96360" y="2781360"/>
            <a:ext cx="1547640" cy="147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73738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0960" y="115920"/>
            <a:ext cx="51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ANIDBENA PIRA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0" y="1076400"/>
            <a:ext cx="90471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476280"/>
            <a:ext cx="6048360" cy="5530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9400" y="148392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rošač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87800" y="25650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potrošači II. re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(mesožderi i svežde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9720" y="52999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oizvođači (zelene bilj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386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rošači I. reda (biljožde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4797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09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nos brojnosti među članovima životne zajednice(na svakom višem stupnju hranidbenog lanca sve je manje organiz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680" y="0"/>
            <a:ext cx="51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ANIDBENA PIRA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508464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UŽENJE TVARI U PRIROD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ruženje (vode, ugljika, kisika, dušika itd.) od proizvođača, preko potrošač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zlagača –održavanje prirodne ravnotež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640" y="623664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 PROTJEČE KROZ ŽIVA BIĆ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4006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4:54:23Z</dcterms:created>
  <dc:creator>user</dc:creator>
  <dc:description/>
  <dc:language>en-US</dc:language>
  <cp:lastModifiedBy>user</cp:lastModifiedBy>
  <dcterms:modified xsi:type="dcterms:W3CDTF">2009-11-09T15:48:45Z</dcterms:modified>
  <cp:revision>3</cp:revision>
  <dc:subject/>
  <dc:title>Slide 1</dc:title>
</cp:coreProperties>
</file>