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15F-20D9-4B98-B51F-CB1D5B04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8E6-7DB2-495D-AE91-CF174B99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7C6-C7A9-468F-A43E-4F674970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6D1E-C621-4D8E-9108-0FDC742C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E49-4B0E-43BD-BE32-C4DAC56B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67E-C4B9-4BAE-8C5F-8B2C80F1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677-2B37-42C4-9B50-3BE6C48D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62F-2679-4091-812D-071F58D7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3FD-6F16-4268-8998-0B689459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1E6-86CA-4984-8493-781B5BC5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AF1-AC78-417B-BE45-10312E00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255-3AEF-455B-A3BF-931956E1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9E35-93C9-48B6-9DEC-518A0ABB52F5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omic Sans MS"/>
              </a:rPr>
              <a:t>ONEČIŠĆENJE I ZAŠTITA ŠU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zroci propadanja šum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kontrolirana sječa  i krčenje š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46840" y="1386000"/>
            <a:ext cx="3557520" cy="2400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724360" y="3938760"/>
            <a:ext cx="21942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zroci propadanja šum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ž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19640" y="2060640"/>
            <a:ext cx="54100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zroci propadanja šum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čišćenje 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vol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39052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BA ZNATI I PRIDRŽAVATI SE PRAVILA PONAŠANJA U Š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34440" y="623736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posljedica djelovanja kiselih kiša na š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072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4240" y="212760"/>
            <a:ext cx="46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ako nastaju kisele kiš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4883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zroci propadanja šum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kisele kiše (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plinovi koji nastaju izgaranjem fosilnih goriva u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oblacima reagiraju s vodom i nastaju kiselin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5589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posljedica djelovanja kiselih kiša na š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8320" y="2297160"/>
            <a:ext cx="40384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9160" y="1557360"/>
            <a:ext cx="163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UV zr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prolaze kro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ozonske ru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8680" y="53006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sloj o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2920" y="1844640"/>
            <a:ext cx="27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</a:rPr>
              <a:t>velik dio UV zr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</a:rPr>
              <a:t>se odbija od sloja o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ko nastaju ozonske rup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59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LJED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k ko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štećenje oč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njenje plodnosti biljaka i životi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042920" y="5084280"/>
            <a:ext cx="576360" cy="287640"/>
          </a:xfrm>
          <a:prstGeom prst="line">
            <a:avLst/>
          </a:prstGeom>
          <a:ln w="507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2492280"/>
            <a:ext cx="1295280" cy="1081080"/>
          </a:xfrm>
          <a:prstGeom prst="line">
            <a:avLst/>
          </a:prstGeom>
          <a:ln w="507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484000" y="2563920"/>
            <a:ext cx="647640" cy="649080"/>
          </a:xfrm>
          <a:prstGeom prst="line">
            <a:avLst/>
          </a:prstGeom>
          <a:ln w="507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4038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Comic Sans MS"/>
              </a:rPr>
              <a:t>znak kojim se obilježavaju proizvodi koji ne uništavaju oz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70700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zroci propadanja šum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ozonske rupe -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nastaju zbog freona koji un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š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tavaju ozon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iz sprejev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klima ur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đ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aja 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hladnjak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038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8120" y="189000"/>
            <a:ext cx="30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činak stakle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7000" y="1052640"/>
            <a:ext cx="122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</a:rPr>
              <a:t>uglji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</a:rPr>
              <a:t>diok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</a:rPr>
              <a:t>nasta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</a:rPr>
              <a:t>goren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5400" y="189000"/>
            <a:ext cx="121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topl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dolazi 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Sunca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Zeml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04400" y="1773360"/>
            <a:ext cx="12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topl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k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ostaj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zagri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atmosf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4880" y="4724280"/>
            <a:ext cx="172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</a:rPr>
              <a:t>sloj ugljikov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</a:rPr>
              <a:t>dioksi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</a:rPr>
              <a:t>podebl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300720" y="1052640"/>
            <a:ext cx="719280" cy="431640"/>
          </a:xfrm>
          <a:prstGeom prst="line">
            <a:avLst/>
          </a:prstGeom>
          <a:ln w="507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1413000"/>
            <a:ext cx="1511280" cy="1079280"/>
          </a:xfrm>
          <a:prstGeom prst="line">
            <a:avLst/>
          </a:prstGeom>
          <a:ln w="507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724360" y="2565360"/>
            <a:ext cx="1656000" cy="432000"/>
          </a:xfrm>
          <a:prstGeom prst="line">
            <a:avLst/>
          </a:prstGeom>
          <a:ln w="507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6876720" y="4005000"/>
            <a:ext cx="934920" cy="718920"/>
          </a:xfrm>
          <a:prstGeom prst="line">
            <a:avLst/>
          </a:prstGeom>
          <a:ln w="507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04840" y="695160"/>
            <a:ext cx="513432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zroci propadanja šum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učinak stakle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ugljikov dioksid ne propu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š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ta toplinu u svemir i atmosfera s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zagrijav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712880"/>
            <a:ext cx="4038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2:57:41Z</dcterms:created>
  <dc:creator>user</dc:creator>
  <dc:description/>
  <dc:language>en-US</dc:language>
  <cp:lastModifiedBy>user</cp:lastModifiedBy>
  <dcterms:modified xsi:type="dcterms:W3CDTF">2009-11-09T15:50:37Z</dcterms:modified>
  <cp:revision>4</cp:revision>
  <dc:subject/>
  <dc:title>Slide 1</dc:title>
</cp:coreProperties>
</file>