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3AE-F167-447F-AC85-47D4E0A7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209-9A92-423E-98C5-598A8311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C34-94C6-4AD8-8A95-233CB5A5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CE4-9551-4D45-9E18-F88FA1FA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136-B2CE-4041-82B9-83458AD2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627-88EF-40A3-A940-147E1B8A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050-0513-4DAE-B759-11C5E347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636-2DE3-4A89-BCF4-21DD590F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102-DA57-4662-A879-FEB47888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681-EB02-4B4D-A418-8A6B23FF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7B3-684B-4980-96E8-5748CE87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1C8-52B1-4198-A317-098997D5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191F-4104-41F0-B50E-25105DDA0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 čemu su slični papučica i vuk, a po čemu su različi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003640" y="2637000"/>
            <a:ext cx="2517840" cy="25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74360" y="501336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puč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73920" y="5229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116000" y="3068640"/>
            <a:ext cx="25909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60120" y="57340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biljke-proizvođa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izvođači – alge i zelene biljke (proizvode hra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52920" y="-712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ranidbeni odno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24000" y="2014560"/>
            <a:ext cx="4896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16120" y="61657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životinje-potroša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trošači – životinje, uzimaju gotovu hranu(biljožderi, mesožderi, svežde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94000" y="1600200"/>
            <a:ext cx="255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39720" y="587700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bakterije i gljive-razlaga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zlagači – gljive i bakterije(razlažu uginule organizme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76360" y="1895400"/>
            <a:ext cx="4391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ranidbeni lanac-organizmi povezani odnosima prehrane od proizvođača preko niza potrošača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5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loška raznolikost-bogatstvo živog svijeta na Zeml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PUL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38320" y="53974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čopor vu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1640" y="53737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krdo je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0370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JEDINKA                   POPUL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365720"/>
            <a:ext cx="276840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233352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419640" y="436572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262560" y="4365720"/>
            <a:ext cx="2881440" cy="218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979640" y="1844640"/>
            <a:ext cx="22683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ORGANIZACIJA ŽIVOG SVIJETA U PRIRO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dinka – jedno živo bić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27320" y="1600200"/>
            <a:ext cx="468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ulacija – skupina jedinki iste vrste na nekom staništu (povezane odnosima razmnožavanja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46200" y="1600200"/>
            <a:ext cx="6051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životna zajednica – skup različitih populacija na istom staništu (povezane odnosima prehran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2720" y="1890720"/>
            <a:ext cx="50385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kološki sustav –životna zajednica +stani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38240" y="1805040"/>
            <a:ext cx="5267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sfera-svi ekološki sustavi +svi organizmi na zem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21120" y="1600200"/>
            <a:ext cx="310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6:04:05Z</dcterms:created>
  <dc:creator>user</dc:creator>
  <dc:description/>
  <dc:language>en-US</dc:language>
  <cp:lastModifiedBy>user</cp:lastModifiedBy>
  <dcterms:modified xsi:type="dcterms:W3CDTF">2009-11-09T15:46:18Z</dcterms:modified>
  <cp:revision>6</cp:revision>
  <dc:subject/>
  <dc:title>Slide 1</dc:title>
</cp:coreProperties>
</file>