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5EC-1E2A-4D50-9F77-1DE965F5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C2B-4373-4CD6-80C9-0F176907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040-A1AE-4FF4-B12B-994342D0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75F-A705-43A7-BACF-387130EB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074-E2D1-452C-87AE-226CED88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1A3-FC63-4396-ADDF-20ED71FC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6D7-97EA-46A3-B66B-CFA5E0EF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E3D-2F3A-4E11-8233-A2A36058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A31-15C9-4005-B5B3-DBE2B108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8FB-4B31-4ED4-96D4-EDC51988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9F4-DB9B-48A6-817E-43565A75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995-2706-407E-807A-13C666A1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321F-FB9F-4084-B84D-4CF4F77187C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OSILNA GOR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328464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tala u prošlosti od fosilnih ostataka biljnih i životinjskih organi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gljen, nafta, zemni p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glj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glavnom biljnog podrijet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racit, lignit i t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2600" y="58053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ugljeno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44020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af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gusta uljasta tekućina nastala od uginulih morskih biljaka i životi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 rafineriji se pročišćava, odnosno rafinira u razne proizvode (benzin, dizel, kerozin i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62840" y="623736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naftna buš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6400" y="1600200"/>
            <a:ext cx="3878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emni p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čest uz nalazišta nafte; koristi se u kućanstvu, industriji, pogonsko gor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alihe fosilnih gor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neobnovljivi izvor en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4:58:37Z</dcterms:created>
  <dc:creator>user</dc:creator>
  <dc:description/>
  <dc:language>en-US</dc:language>
  <cp:lastModifiedBy>user</cp:lastModifiedBy>
  <dcterms:modified xsi:type="dcterms:W3CDTF">2009-11-09T15:53:20Z</dcterms:modified>
  <cp:revision>2</cp:revision>
  <dc:subject/>
  <dc:title>FOSILNA GORIVA</dc:title>
</cp:coreProperties>
</file>