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AA9-9643-47D5-A5CD-F201E453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F9F-B8EE-46CC-9320-E678BE58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273-67B1-4072-86E1-CF2BB9BF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DA3-37C0-4A04-8AAA-2AA665B1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127-577D-4003-AAA7-1A44974B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B89-368F-46C4-A7FF-FA38910D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8B9-AE72-4DDF-A0E3-F5BBEC2F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08A-F9CA-43F8-B4B3-991D7FDD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EE7-7B22-494C-B7A8-3F147D56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91B-D740-43AC-BE3F-17E20A1D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B54-3B9E-420B-93D1-3E248502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54A-E989-4118-942A-3E633F32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38A0-EF25-4BDE-887B-DA0D7EAFC26B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7080" y="292572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0" y="2925720"/>
            <a:ext cx="719280" cy="36036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292572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3960" y="400680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izvođ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0560" y="364644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roša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6920" y="458136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roša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6920" y="465444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roša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20000" y="292572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20280" y="40068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zlagač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1162080" cy="1838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160720" y="2565360"/>
            <a:ext cx="933480" cy="1028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995640" y="1773360"/>
            <a:ext cx="96228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867280" y="1917720"/>
            <a:ext cx="1057320" cy="2486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596360" y="2494080"/>
            <a:ext cx="15476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337440" cy="60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08440" y="549360"/>
            <a:ext cx="541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OTOK TVARI I ENER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720" y="191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vari kruže a energija protječ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91440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9800" y="468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RUŽNO GIBANJE V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03480" y="5305320"/>
            <a:ext cx="25153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MORA,JEZERA,RIJE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75800" y="5954760"/>
            <a:ext cx="2151360" cy="642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L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ODZEMNE V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84920" y="4154400"/>
            <a:ext cx="90936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ILJ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82800" y="4154400"/>
            <a:ext cx="140904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ŽIVOTIN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ČOVJ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8402000">
            <a:off x="1722600" y="290412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PADA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7991600">
            <a:off x="2052720" y="31899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SPARA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3896400">
            <a:off x="6199200" y="2424240"/>
            <a:ext cx="117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ISAN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ZN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8229200">
            <a:off x="6264000" y="505044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MOKRA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221360" y="233676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RANSPIR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465800">
            <a:off x="3730680" y="303984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PADA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195640" y="1125360"/>
            <a:ext cx="2160360" cy="4104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332000" y="765000"/>
            <a:ext cx="3024000" cy="4319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364000" y="1089000"/>
            <a:ext cx="0" cy="306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5796000" y="1196640"/>
            <a:ext cx="1224000" cy="2808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00360" y="981000"/>
            <a:ext cx="215640" cy="4969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5734080"/>
            <a:ext cx="2160720" cy="719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364000" y="4652640"/>
            <a:ext cx="0" cy="1152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796000" y="4868640"/>
            <a:ext cx="720720" cy="936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43640" y="4869000"/>
            <a:ext cx="720720" cy="936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404640"/>
            <a:ext cx="1584360" cy="576360"/>
          </a:xfrm>
          <a:prstGeom prst="cloudCallout">
            <a:avLst>
              <a:gd name="adj1" fmla="val -146791"/>
              <a:gd name="adj2" fmla="val 401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333360"/>
            <a:ext cx="1224000" cy="647640"/>
          </a:xfrm>
          <a:prstGeom prst="cloudCallout">
            <a:avLst>
              <a:gd name="adj1" fmla="val -177236"/>
              <a:gd name="adj2" fmla="val 60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60280"/>
            <a:ext cx="1368360" cy="792360"/>
          </a:xfrm>
          <a:prstGeom prst="cloudCallout">
            <a:avLst>
              <a:gd name="adj1" fmla="val -59282"/>
              <a:gd name="adj2" fmla="val 4175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476280"/>
            <a:ext cx="1295640" cy="647640"/>
          </a:xfrm>
          <a:prstGeom prst="cloudCallout">
            <a:avLst>
              <a:gd name="adj1" fmla="val 129046"/>
              <a:gd name="adj2" fmla="val 4985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143000">
            <a:off x="2795400" y="58766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Comic Sans MS"/>
              </a:rPr>
              <a:t>UPIJ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8601800">
            <a:off x="5476320" y="514476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Comic Sans MS"/>
              </a:rPr>
              <a:t>PIJ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4511520" y="50972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Comic Sans MS"/>
              </a:rPr>
              <a:t>UPIJ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5:01:08Z</dcterms:created>
  <dc:creator>user</dc:creator>
  <dc:description/>
  <dc:language>en-US</dc:language>
  <cp:lastModifiedBy>user</cp:lastModifiedBy>
  <dcterms:modified xsi:type="dcterms:W3CDTF">2009-11-09T15:54:22Z</dcterms:modified>
  <cp:revision>3</cp:revision>
  <dc:subject/>
  <dc:title>Slide 1</dc:title>
</cp:coreProperties>
</file>