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F94-D898-411D-83CE-0BE969F6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919-66A2-4F00-BA77-A0CA3EE3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512-D98A-467F-B509-4F6F7161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919-2FFE-437E-A417-14E05F46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52F-C956-443E-AF60-F93CED2F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CB6-EFC4-4296-B55B-78CACEFA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BBC-6735-4793-9173-6569AED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9A5-9EA7-4D49-99B6-44419E6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EC2-8241-4ADE-9822-DAE61D00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9A7-256F-406A-A502-D3E6D58A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EA6-73C4-4F4F-A27C-7FC59894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A72-F115-485A-B96C-13B7FDC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AA8-6099-4709-A01C-CD9296E86C42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9640" y="549360"/>
          <a:ext cx="8064360" cy="5253120"/>
        </p:xfrm>
        <a:graphic>
          <a:graphicData uri="http://schemas.openxmlformats.org/drawingml/2006/table">
            <a:tbl>
              <a:tblPr/>
              <a:tblGrid>
                <a:gridCol w="2151000"/>
                <a:gridCol w="1971720"/>
                <a:gridCol w="1970280"/>
                <a:gridCol w="1971360"/>
              </a:tblGrid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  <a:ea typeface="Times New Roman"/>
                        </a:rPr>
                        <a:t>VISIBA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00"/>
                          </a:solidFill>
                          <a:latin typeface="Comic Sans MS"/>
                          <a:ea typeface="Times New Roman"/>
                        </a:rPr>
                        <a:t>VRG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80"/>
                          </a:solidFill>
                          <a:latin typeface="Comic Sans MS"/>
                          <a:ea typeface="Times New Roman"/>
                        </a:rPr>
                        <a:t>SVIJET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Comic Sans MS"/>
                          <a:ea typeface="Times New Roman"/>
                        </a:rPr>
                        <a:t>UKUS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  <a:ea typeface="Times New Roman"/>
                        </a:rPr>
                        <a:t>KUKURIJ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00"/>
                          </a:solidFill>
                          <a:latin typeface="Comic Sans MS"/>
                          <a:ea typeface="Times New Roman"/>
                        </a:rPr>
                        <a:t>LUD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80"/>
                          </a:solidFill>
                          <a:latin typeface="Comic Sans MS"/>
                          <a:ea typeface="Times New Roman"/>
                        </a:rPr>
                        <a:t>BUK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Comic Sans MS"/>
                          <a:ea typeface="Times New Roman"/>
                        </a:rPr>
                        <a:t>SOČ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  <a:ea typeface="Times New Roman"/>
                        </a:rPr>
                        <a:t>ŠUMA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00"/>
                          </a:solidFill>
                          <a:latin typeface="Comic Sans MS"/>
                          <a:ea typeface="Times New Roman"/>
                        </a:rPr>
                        <a:t>SUNČA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80"/>
                          </a:solidFill>
                          <a:latin typeface="Comic Sans MS"/>
                          <a:ea typeface="Times New Roman"/>
                        </a:rPr>
                        <a:t>HRAST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Comic Sans MS"/>
                          <a:ea typeface="Times New Roman"/>
                        </a:rPr>
                        <a:t>PLOD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  <a:ea typeface="Times New Roman"/>
                        </a:rPr>
                        <a:t>ŠAF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00"/>
                          </a:solidFill>
                          <a:latin typeface="Comic Sans MS"/>
                          <a:ea typeface="Times New Roman"/>
                        </a:rPr>
                        <a:t>MUH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80"/>
                          </a:solidFill>
                          <a:latin typeface="Comic Sans MS"/>
                          <a:ea typeface="Times New Roman"/>
                        </a:rPr>
                        <a:t>SJENO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Comic Sans MS"/>
                          <a:ea typeface="Times New Roman"/>
                        </a:rPr>
                        <a:t>HR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PROLJET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GLJ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ŠU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JE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BILJKE I GLJIVE KONTINENTALNE LISTOPADNE Š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2" name=""/>
          <p:cNvGrpSpPr/>
          <p:nvPr/>
        </p:nvGrpSpPr>
        <p:grpSpPr>
          <a:xfrm>
            <a:off x="755640" y="620640"/>
            <a:ext cx="1800360" cy="823680"/>
            <a:chOff x="755640" y="620640"/>
            <a:chExt cx="1800360" cy="823680"/>
          </a:xfrm>
        </p:grpSpPr>
        <p:sp>
          <p:nvSpPr>
            <p:cNvPr id="43" name=""/>
            <p:cNvSpPr/>
            <p:nvPr/>
          </p:nvSpPr>
          <p:spPr>
            <a:xfrm>
              <a:off x="755640" y="620640"/>
              <a:ext cx="1800360" cy="82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7200" y="853200"/>
              <a:ext cx="5544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84360" y="1557360"/>
            <a:ext cx="1871640" cy="792000"/>
            <a:chOff x="684360" y="1557360"/>
            <a:chExt cx="1871640" cy="792000"/>
          </a:xfrm>
        </p:grpSpPr>
        <p:sp>
          <p:nvSpPr>
            <p:cNvPr id="46" name=""/>
            <p:cNvSpPr/>
            <p:nvPr/>
          </p:nvSpPr>
          <p:spPr>
            <a:xfrm>
              <a:off x="684360" y="155736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03640" y="177192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84360" y="2421000"/>
            <a:ext cx="1871640" cy="790560"/>
            <a:chOff x="684360" y="2421000"/>
            <a:chExt cx="1871640" cy="790560"/>
          </a:xfrm>
        </p:grpSpPr>
        <p:sp>
          <p:nvSpPr>
            <p:cNvPr id="49" name=""/>
            <p:cNvSpPr/>
            <p:nvPr/>
          </p:nvSpPr>
          <p:spPr>
            <a:xfrm>
              <a:off x="684360" y="242100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03640" y="260100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A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84360" y="4221000"/>
            <a:ext cx="1871640" cy="792360"/>
            <a:chOff x="684360" y="4221000"/>
            <a:chExt cx="1871640" cy="792360"/>
          </a:xfrm>
        </p:grpSpPr>
        <p:sp>
          <p:nvSpPr>
            <p:cNvPr id="52" name=""/>
            <p:cNvSpPr/>
            <p:nvPr/>
          </p:nvSpPr>
          <p:spPr>
            <a:xfrm>
              <a:off x="684360" y="422100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03640" y="4405680"/>
              <a:ext cx="5047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700360" y="620640"/>
            <a:ext cx="1871640" cy="792000"/>
            <a:chOff x="2700360" y="620640"/>
            <a:chExt cx="1871640" cy="792000"/>
          </a:xfrm>
        </p:grpSpPr>
        <p:sp>
          <p:nvSpPr>
            <p:cNvPr id="55" name=""/>
            <p:cNvSpPr/>
            <p:nvPr/>
          </p:nvSpPr>
          <p:spPr>
            <a:xfrm>
              <a:off x="2700360" y="620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48000" y="83556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643280" y="620640"/>
            <a:ext cx="1872000" cy="792000"/>
            <a:chOff x="4643280" y="620640"/>
            <a:chExt cx="1872000" cy="792000"/>
          </a:xfrm>
        </p:grpSpPr>
        <p:sp>
          <p:nvSpPr>
            <p:cNvPr id="58" name=""/>
            <p:cNvSpPr/>
            <p:nvPr/>
          </p:nvSpPr>
          <p:spPr>
            <a:xfrm>
              <a:off x="4643280" y="620640"/>
              <a:ext cx="187200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92720" y="83556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732720" y="620640"/>
            <a:ext cx="1800000" cy="823680"/>
            <a:chOff x="6732720" y="620640"/>
            <a:chExt cx="1800000" cy="823680"/>
          </a:xfrm>
        </p:grpSpPr>
        <p:sp>
          <p:nvSpPr>
            <p:cNvPr id="61" name=""/>
            <p:cNvSpPr/>
            <p:nvPr/>
          </p:nvSpPr>
          <p:spPr>
            <a:xfrm>
              <a:off x="6732720" y="620640"/>
              <a:ext cx="1800000" cy="82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24280" y="853200"/>
              <a:ext cx="55404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659640" y="1557360"/>
            <a:ext cx="1871640" cy="792000"/>
            <a:chOff x="6659640" y="1557360"/>
            <a:chExt cx="1871640" cy="792000"/>
          </a:xfrm>
        </p:grpSpPr>
        <p:sp>
          <p:nvSpPr>
            <p:cNvPr id="64" name=""/>
            <p:cNvSpPr/>
            <p:nvPr/>
          </p:nvSpPr>
          <p:spPr>
            <a:xfrm>
              <a:off x="6659640" y="155736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78920" y="177192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659640" y="2421000"/>
            <a:ext cx="1871640" cy="790560"/>
            <a:chOff x="6659640" y="2421000"/>
            <a:chExt cx="1871640" cy="790560"/>
          </a:xfrm>
        </p:grpSpPr>
        <p:sp>
          <p:nvSpPr>
            <p:cNvPr id="67" name=""/>
            <p:cNvSpPr/>
            <p:nvPr/>
          </p:nvSpPr>
          <p:spPr>
            <a:xfrm>
              <a:off x="6659640" y="242100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78920" y="260100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659640" y="4221000"/>
            <a:ext cx="1871640" cy="792360"/>
            <a:chOff x="6659640" y="4221000"/>
            <a:chExt cx="1871640" cy="792360"/>
          </a:xfrm>
        </p:grpSpPr>
        <p:sp>
          <p:nvSpPr>
            <p:cNvPr id="70" name=""/>
            <p:cNvSpPr/>
            <p:nvPr/>
          </p:nvSpPr>
          <p:spPr>
            <a:xfrm>
              <a:off x="6659640" y="422100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78920" y="4405680"/>
              <a:ext cx="5047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771640" y="1557360"/>
            <a:ext cx="1871640" cy="790560"/>
            <a:chOff x="2771640" y="1557360"/>
            <a:chExt cx="1871640" cy="790560"/>
          </a:xfrm>
        </p:grpSpPr>
        <p:sp>
          <p:nvSpPr>
            <p:cNvPr id="73" name=""/>
            <p:cNvSpPr/>
            <p:nvPr/>
          </p:nvSpPr>
          <p:spPr>
            <a:xfrm>
              <a:off x="2771640" y="155736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9280" y="177228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700360" y="2421000"/>
            <a:ext cx="1871640" cy="792000"/>
            <a:chOff x="2700360" y="2421000"/>
            <a:chExt cx="1871640" cy="792000"/>
          </a:xfrm>
        </p:grpSpPr>
        <p:sp>
          <p:nvSpPr>
            <p:cNvPr id="76" name=""/>
            <p:cNvSpPr/>
            <p:nvPr/>
          </p:nvSpPr>
          <p:spPr>
            <a:xfrm>
              <a:off x="2700360" y="2421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8000" y="263592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B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00360" y="4221000"/>
            <a:ext cx="1871640" cy="792360"/>
            <a:chOff x="2700360" y="4221000"/>
            <a:chExt cx="1871640" cy="792360"/>
          </a:xfrm>
        </p:grpSpPr>
        <p:sp>
          <p:nvSpPr>
            <p:cNvPr id="79" name=""/>
            <p:cNvSpPr/>
            <p:nvPr/>
          </p:nvSpPr>
          <p:spPr>
            <a:xfrm>
              <a:off x="2700360" y="422100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48000" y="4405680"/>
              <a:ext cx="5763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6360" y="2421000"/>
            <a:ext cx="1871640" cy="792000"/>
            <a:chOff x="4716360" y="2421000"/>
            <a:chExt cx="1871640" cy="792000"/>
          </a:xfrm>
        </p:grpSpPr>
        <p:sp>
          <p:nvSpPr>
            <p:cNvPr id="82" name=""/>
            <p:cNvSpPr/>
            <p:nvPr/>
          </p:nvSpPr>
          <p:spPr>
            <a:xfrm>
              <a:off x="4716360" y="242100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65440" y="263592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16360" y="4221000"/>
            <a:ext cx="1871640" cy="792360"/>
            <a:chOff x="4716360" y="4221000"/>
            <a:chExt cx="1871640" cy="792360"/>
          </a:xfrm>
        </p:grpSpPr>
        <p:sp>
          <p:nvSpPr>
            <p:cNvPr id="85" name=""/>
            <p:cNvSpPr/>
            <p:nvPr/>
          </p:nvSpPr>
          <p:spPr>
            <a:xfrm>
              <a:off x="4716360" y="422100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65440" y="4405680"/>
              <a:ext cx="57600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16360" y="1557360"/>
            <a:ext cx="1871640" cy="792000"/>
            <a:chOff x="4716360" y="1557360"/>
            <a:chExt cx="1871640" cy="792000"/>
          </a:xfrm>
        </p:grpSpPr>
        <p:sp>
          <p:nvSpPr>
            <p:cNvPr id="88" name=""/>
            <p:cNvSpPr/>
            <p:nvPr/>
          </p:nvSpPr>
          <p:spPr>
            <a:xfrm>
              <a:off x="4716360" y="155736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65440" y="177192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84360" y="3284640"/>
            <a:ext cx="1871640" cy="790560"/>
            <a:chOff x="684360" y="3284640"/>
            <a:chExt cx="1871640" cy="790560"/>
          </a:xfrm>
        </p:grpSpPr>
        <p:sp>
          <p:nvSpPr>
            <p:cNvPr id="91" name=""/>
            <p:cNvSpPr/>
            <p:nvPr/>
          </p:nvSpPr>
          <p:spPr>
            <a:xfrm>
              <a:off x="684360" y="328464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3640" y="346464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A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771640" y="3284640"/>
            <a:ext cx="1871640" cy="792000"/>
            <a:chOff x="2771640" y="3284640"/>
            <a:chExt cx="1871640" cy="792000"/>
          </a:xfrm>
        </p:grpSpPr>
        <p:sp>
          <p:nvSpPr>
            <p:cNvPr id="94" name=""/>
            <p:cNvSpPr/>
            <p:nvPr/>
          </p:nvSpPr>
          <p:spPr>
            <a:xfrm>
              <a:off x="2771640" y="3284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19280" y="349956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B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16360" y="3284640"/>
            <a:ext cx="1871640" cy="792000"/>
            <a:chOff x="4716360" y="3284640"/>
            <a:chExt cx="1871640" cy="792000"/>
          </a:xfrm>
        </p:grpSpPr>
        <p:sp>
          <p:nvSpPr>
            <p:cNvPr id="97" name=""/>
            <p:cNvSpPr/>
            <p:nvPr/>
          </p:nvSpPr>
          <p:spPr>
            <a:xfrm>
              <a:off x="4716360" y="3284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65440" y="3499560"/>
              <a:ext cx="5760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32720" y="3284640"/>
            <a:ext cx="1871640" cy="790560"/>
            <a:chOff x="6732720" y="3284640"/>
            <a:chExt cx="1871640" cy="790560"/>
          </a:xfrm>
        </p:grpSpPr>
        <p:sp>
          <p:nvSpPr>
            <p:cNvPr id="100" name=""/>
            <p:cNvSpPr/>
            <p:nvPr/>
          </p:nvSpPr>
          <p:spPr>
            <a:xfrm>
              <a:off x="6732720" y="3284640"/>
              <a:ext cx="1871640" cy="790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52000" y="3464640"/>
              <a:ext cx="5763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D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39640" y="5084640"/>
            <a:ext cx="8064720" cy="935280"/>
          </a:xfrm>
          <a:custGeom>
            <a:avLst/>
            <a:gdLst>
              <a:gd name="textAreaLeft" fmla="*/ 60480 w 8064720"/>
              <a:gd name="textAreaRight" fmla="*/ 8004240 w 806472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186189" h="21600">
                <a:moveTo>
                  <a:pt x="0" y="0"/>
                </a:moveTo>
                <a:lnTo>
                  <a:pt x="186189" y="0"/>
                </a:lnTo>
                <a:lnTo>
                  <a:pt x="186189" y="21600"/>
                </a:lnTo>
                <a:lnTo>
                  <a:pt x="0" y="21600"/>
                </a:lnTo>
                <a:close/>
              </a:path>
              <a:path fill="lightenLess" w="186189" h="21600">
                <a:moveTo>
                  <a:pt x="0" y="0"/>
                </a:moveTo>
                <a:lnTo>
                  <a:pt x="186189" y="0"/>
                </a:lnTo>
                <a:lnTo>
                  <a:pt x="184789" y="1400"/>
                </a:lnTo>
                <a:lnTo>
                  <a:pt x="1400" y="1400"/>
                </a:lnTo>
                <a:close/>
              </a:path>
              <a:path fill="darken" w="186189" h="21600">
                <a:moveTo>
                  <a:pt x="186189" y="0"/>
                </a:moveTo>
                <a:lnTo>
                  <a:pt x="186189" y="21600"/>
                </a:lnTo>
                <a:lnTo>
                  <a:pt x="184789" y="20200"/>
                </a:lnTo>
                <a:lnTo>
                  <a:pt x="184789" y="1400"/>
                </a:lnTo>
                <a:close/>
              </a:path>
              <a:path fill="darkenLess" w="186189" h="21600">
                <a:moveTo>
                  <a:pt x="186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789" y="20200"/>
                </a:lnTo>
                <a:close/>
              </a:path>
              <a:path fill="lighten" w="186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JEŠ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PRIZEMNI SLOJ Š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3800" y="36450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mah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88720" y="63086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mu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97840" y="63086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vrgan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3716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ap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5760" y="342900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visib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2008080" cy="2589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359100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59640" y="1125360"/>
            <a:ext cx="1744560" cy="259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219640" y="4149720"/>
            <a:ext cx="2921040" cy="218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43036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SLOJ GRM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70520" y="3357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od ši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760" y="62373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lije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4960" y="33577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divlja ruž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4680" y="630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ku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97880" y="62373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od lješ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2882880" cy="2186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3311280" cy="2186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796000" y="3789360"/>
            <a:ext cx="2406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56080" y="42940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SLOJ DRVEĆ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57320" y="3286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hrast luž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27840" y="61657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buk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41480" y="3286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hrast kit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3200" y="60930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od buk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3040" y="6238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itomi k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36880" y="58770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od k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7640" y="981000"/>
            <a:ext cx="2605320" cy="3167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054080"/>
            <a:ext cx="3255840" cy="2163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4797360"/>
            <a:ext cx="2043000" cy="138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659640" y="4869000"/>
            <a:ext cx="1263600" cy="1199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564000" y="1125360"/>
            <a:ext cx="2124000" cy="2076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57080" y="4078440"/>
            <a:ext cx="909720" cy="2116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2195640" y="4508640"/>
            <a:ext cx="151128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-15840"/>
            <a:ext cx="82072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33:19Z</dcterms:created>
  <dc:creator>user</dc:creator>
  <dc:description/>
  <dc:language>en-US</dc:language>
  <cp:lastModifiedBy>user</cp:lastModifiedBy>
  <dcterms:modified xsi:type="dcterms:W3CDTF">2009-11-09T15:48:22Z</dcterms:modified>
  <cp:revision>5</cp:revision>
  <dc:subject/>
  <dc:title>Slide 1</dc:title>
</cp:coreProperties>
</file>