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6CA-3927-4557-B983-46B8D9D6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448-22A0-4274-871D-16812AEA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55C-ADE3-46F8-BCD0-53A2519F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B19-D3E5-4DB3-8694-0FD7D428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B37-375D-4F5C-B318-9BFE553C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318-74F7-4272-AA4F-8C5B58E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28D-125B-41FA-8D1E-BDC05007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FFB-E0D2-4330-832C-08D3F48D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094-97D7-4B58-A90E-DDB1BE45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6C8-D09E-47CE-B393-2BAA1BB1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D1E-6D49-468C-A18C-E00442CD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FAA-69C2-41E2-B274-DCD84F5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885D-C945-46ED-B47F-33BD1668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4941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  <a:ea typeface="Arial"/>
              </a:rPr>
              <a:t>ENERGIJA I OBL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  <a:ea typeface="Arial"/>
              </a:rPr>
              <a:t>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2916360" y="4869000"/>
            <a:ext cx="3457440" cy="934920"/>
          </a:xfrm>
          <a:custGeom>
            <a:avLst/>
            <a:gdLst>
              <a:gd name="textAreaLeft" fmla="*/ 60480 w 3457440"/>
              <a:gd name="textAreaRight" fmla="*/ 3396960 w 34574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79857" h="21600">
                <a:moveTo>
                  <a:pt x="0" y="0"/>
                </a:moveTo>
                <a:lnTo>
                  <a:pt x="79857" y="0"/>
                </a:lnTo>
                <a:lnTo>
                  <a:pt x="79857" y="21600"/>
                </a:lnTo>
                <a:lnTo>
                  <a:pt x="0" y="21600"/>
                </a:lnTo>
                <a:close/>
              </a:path>
              <a:path fill="lightenLess" w="79857" h="21600">
                <a:moveTo>
                  <a:pt x="0" y="0"/>
                </a:moveTo>
                <a:lnTo>
                  <a:pt x="79857" y="0"/>
                </a:lnTo>
                <a:lnTo>
                  <a:pt x="78457" y="1400"/>
                </a:lnTo>
                <a:lnTo>
                  <a:pt x="1400" y="1400"/>
                </a:lnTo>
                <a:close/>
              </a:path>
              <a:path fill="darken" w="79857" h="21600">
                <a:moveTo>
                  <a:pt x="79857" y="0"/>
                </a:moveTo>
                <a:lnTo>
                  <a:pt x="79857" y="21600"/>
                </a:lnTo>
                <a:lnTo>
                  <a:pt x="78457" y="20200"/>
                </a:lnTo>
                <a:lnTo>
                  <a:pt x="78457" y="1400"/>
                </a:lnTo>
                <a:close/>
              </a:path>
              <a:path fill="darkenLess" w="79857" h="21600">
                <a:moveTo>
                  <a:pt x="79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7" y="20200"/>
                </a:lnTo>
                <a:close/>
              </a:path>
              <a:path fill="lighten" w="79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RJEŠ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92000" y="981000"/>
          <a:ext cx="7812360" cy="3765600"/>
        </p:xfrm>
        <a:graphic>
          <a:graphicData uri="http://schemas.openxmlformats.org/drawingml/2006/table">
            <a:tbl>
              <a:tblPr/>
              <a:tblGrid>
                <a:gridCol w="1952640"/>
                <a:gridCol w="1954440"/>
                <a:gridCol w="1952640"/>
                <a:gridCol w="195264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tencijal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lj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j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č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olekt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netič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tosta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hanič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emni p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om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vjetlosna 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plinska ener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SILNA GOR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HVATLJIV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V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" name=""/>
          <p:cNvGrpSpPr/>
          <p:nvPr/>
        </p:nvGrpSpPr>
        <p:grpSpPr>
          <a:xfrm>
            <a:off x="900000" y="981000"/>
            <a:ext cx="1800360" cy="823680"/>
            <a:chOff x="900000" y="981000"/>
            <a:chExt cx="1800360" cy="823680"/>
          </a:xfrm>
        </p:grpSpPr>
        <p:sp>
          <p:nvSpPr>
            <p:cNvPr id="45" name=""/>
            <p:cNvSpPr/>
            <p:nvPr/>
          </p:nvSpPr>
          <p:spPr>
            <a:xfrm>
              <a:off x="900000" y="981000"/>
              <a:ext cx="1800360" cy="82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91560" y="1213560"/>
              <a:ext cx="5544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826920" y="1916280"/>
            <a:ext cx="1871640" cy="792000"/>
            <a:chOff x="826920" y="1916280"/>
            <a:chExt cx="1871640" cy="792000"/>
          </a:xfrm>
        </p:grpSpPr>
        <p:sp>
          <p:nvSpPr>
            <p:cNvPr id="48" name=""/>
            <p:cNvSpPr/>
            <p:nvPr/>
          </p:nvSpPr>
          <p:spPr>
            <a:xfrm>
              <a:off x="826920" y="191628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46200" y="213084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826920" y="2781360"/>
            <a:ext cx="1871640" cy="790560"/>
            <a:chOff x="826920" y="2781360"/>
            <a:chExt cx="1871640" cy="790560"/>
          </a:xfrm>
        </p:grpSpPr>
        <p:sp>
          <p:nvSpPr>
            <p:cNvPr id="51" name=""/>
            <p:cNvSpPr/>
            <p:nvPr/>
          </p:nvSpPr>
          <p:spPr>
            <a:xfrm>
              <a:off x="826920" y="278136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46200" y="296136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26920" y="3789360"/>
            <a:ext cx="1871640" cy="863280"/>
            <a:chOff x="826920" y="3789360"/>
            <a:chExt cx="1871640" cy="863280"/>
          </a:xfrm>
        </p:grpSpPr>
        <p:sp>
          <p:nvSpPr>
            <p:cNvPr id="54" name=""/>
            <p:cNvSpPr/>
            <p:nvPr/>
          </p:nvSpPr>
          <p:spPr>
            <a:xfrm>
              <a:off x="826920" y="3789360"/>
              <a:ext cx="1871640" cy="863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46200" y="4012200"/>
              <a:ext cx="5047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771640" y="981000"/>
            <a:ext cx="1871640" cy="792000"/>
            <a:chOff x="2771640" y="981000"/>
            <a:chExt cx="1871640" cy="792000"/>
          </a:xfrm>
        </p:grpSpPr>
        <p:sp>
          <p:nvSpPr>
            <p:cNvPr id="57" name=""/>
            <p:cNvSpPr/>
            <p:nvPr/>
          </p:nvSpPr>
          <p:spPr>
            <a:xfrm>
              <a:off x="2771640" y="981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19280" y="119592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788000" y="1052640"/>
            <a:ext cx="1871640" cy="792000"/>
            <a:chOff x="4788000" y="1052640"/>
            <a:chExt cx="1871640" cy="792000"/>
          </a:xfrm>
        </p:grpSpPr>
        <p:sp>
          <p:nvSpPr>
            <p:cNvPr id="60" name=""/>
            <p:cNvSpPr/>
            <p:nvPr/>
          </p:nvSpPr>
          <p:spPr>
            <a:xfrm>
              <a:off x="4788000" y="1052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37080" y="126756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732720" y="981000"/>
            <a:ext cx="1800000" cy="823680"/>
            <a:chOff x="6732720" y="981000"/>
            <a:chExt cx="1800000" cy="823680"/>
          </a:xfrm>
        </p:grpSpPr>
        <p:sp>
          <p:nvSpPr>
            <p:cNvPr id="63" name=""/>
            <p:cNvSpPr/>
            <p:nvPr/>
          </p:nvSpPr>
          <p:spPr>
            <a:xfrm>
              <a:off x="6732720" y="981000"/>
              <a:ext cx="1800000" cy="82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24280" y="1213560"/>
              <a:ext cx="55404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732720" y="1916280"/>
            <a:ext cx="1871640" cy="792000"/>
            <a:chOff x="6732720" y="1916280"/>
            <a:chExt cx="1871640" cy="792000"/>
          </a:xfrm>
        </p:grpSpPr>
        <p:sp>
          <p:nvSpPr>
            <p:cNvPr id="66" name=""/>
            <p:cNvSpPr/>
            <p:nvPr/>
          </p:nvSpPr>
          <p:spPr>
            <a:xfrm>
              <a:off x="6732720" y="191628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52000" y="213084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732720" y="2852640"/>
            <a:ext cx="1871640" cy="863280"/>
            <a:chOff x="6732720" y="2852640"/>
            <a:chExt cx="1871640" cy="863280"/>
          </a:xfrm>
        </p:grpSpPr>
        <p:sp>
          <p:nvSpPr>
            <p:cNvPr id="69" name=""/>
            <p:cNvSpPr/>
            <p:nvPr/>
          </p:nvSpPr>
          <p:spPr>
            <a:xfrm>
              <a:off x="6732720" y="2852640"/>
              <a:ext cx="1871640" cy="863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52000" y="306720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732720" y="3789360"/>
            <a:ext cx="1871640" cy="863280"/>
            <a:chOff x="6732720" y="3789360"/>
            <a:chExt cx="1871640" cy="863280"/>
          </a:xfrm>
        </p:grpSpPr>
        <p:sp>
          <p:nvSpPr>
            <p:cNvPr id="72" name=""/>
            <p:cNvSpPr/>
            <p:nvPr/>
          </p:nvSpPr>
          <p:spPr>
            <a:xfrm>
              <a:off x="6732720" y="3789360"/>
              <a:ext cx="1871640" cy="863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52000" y="4012200"/>
              <a:ext cx="5047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771640" y="1844640"/>
            <a:ext cx="1871640" cy="790560"/>
            <a:chOff x="2771640" y="1844640"/>
            <a:chExt cx="1871640" cy="790560"/>
          </a:xfrm>
        </p:grpSpPr>
        <p:sp>
          <p:nvSpPr>
            <p:cNvPr id="75" name=""/>
            <p:cNvSpPr/>
            <p:nvPr/>
          </p:nvSpPr>
          <p:spPr>
            <a:xfrm>
              <a:off x="2771640" y="184464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19280" y="205956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771640" y="2781360"/>
            <a:ext cx="1871640" cy="792000"/>
            <a:chOff x="2771640" y="2781360"/>
            <a:chExt cx="1871640" cy="792000"/>
          </a:xfrm>
        </p:grpSpPr>
        <p:sp>
          <p:nvSpPr>
            <p:cNvPr id="78" name=""/>
            <p:cNvSpPr/>
            <p:nvPr/>
          </p:nvSpPr>
          <p:spPr>
            <a:xfrm>
              <a:off x="2771640" y="278136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19280" y="299628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B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71640" y="3789360"/>
            <a:ext cx="1871640" cy="863280"/>
            <a:chOff x="2771640" y="3789360"/>
            <a:chExt cx="1871640" cy="863280"/>
          </a:xfrm>
        </p:grpSpPr>
        <p:sp>
          <p:nvSpPr>
            <p:cNvPr id="81" name=""/>
            <p:cNvSpPr/>
            <p:nvPr/>
          </p:nvSpPr>
          <p:spPr>
            <a:xfrm>
              <a:off x="2771640" y="3789360"/>
              <a:ext cx="1871640" cy="863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19280" y="4012200"/>
              <a:ext cx="5763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716360" y="2852640"/>
            <a:ext cx="1871640" cy="792000"/>
            <a:chOff x="4716360" y="2852640"/>
            <a:chExt cx="1871640" cy="792000"/>
          </a:xfrm>
        </p:grpSpPr>
        <p:sp>
          <p:nvSpPr>
            <p:cNvPr id="84" name=""/>
            <p:cNvSpPr/>
            <p:nvPr/>
          </p:nvSpPr>
          <p:spPr>
            <a:xfrm>
              <a:off x="4716360" y="2852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5440" y="306756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716360" y="3789360"/>
            <a:ext cx="1871640" cy="863280"/>
            <a:chOff x="4716360" y="3789360"/>
            <a:chExt cx="1871640" cy="863280"/>
          </a:xfrm>
        </p:grpSpPr>
        <p:sp>
          <p:nvSpPr>
            <p:cNvPr id="87" name=""/>
            <p:cNvSpPr/>
            <p:nvPr/>
          </p:nvSpPr>
          <p:spPr>
            <a:xfrm>
              <a:off x="4716360" y="3789360"/>
              <a:ext cx="1871640" cy="863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65440" y="4012200"/>
              <a:ext cx="57600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88000" y="1916280"/>
            <a:ext cx="1871640" cy="792000"/>
            <a:chOff x="4788000" y="1916280"/>
            <a:chExt cx="1871640" cy="792000"/>
          </a:xfrm>
        </p:grpSpPr>
        <p:sp>
          <p:nvSpPr>
            <p:cNvPr id="90" name=""/>
            <p:cNvSpPr/>
            <p:nvPr/>
          </p:nvSpPr>
          <p:spPr>
            <a:xfrm>
              <a:off x="4788000" y="191628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37080" y="213084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141120"/>
            <a:ext cx="729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 kojem položaju tijelo ima najveću potencijalnu energij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 kojem položaju ima najveću kinetičku energi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skok u vodu II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524040" cy="5157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40360" y="3050280"/>
            <a:ext cx="482436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jelo prije skoka ima veliku potencijalnu energ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jelo pri uranjanju u vodu ima najveću kinetičku energij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404640"/>
            <a:ext cx="779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U kojem položaju A, B ili C tijelo ima najveću potencijalnu energiju, a u kojem položaju ima najveću kinetičku energi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6336000" cy="383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56000" y="242100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jelo A ima najveću potencijalnu energij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od tijela u položaju B potencijalna energija pretvara se u kinetičk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jelo u položaju C ima najveću kinetičku energij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486320" cy="209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3319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U kojem položaju i kada tvoja papirnata žaba ima najveću potencijalnu, odnosno kinetičku energi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560" y="4941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KOČI-ŽABA ima najveću potencijalnu energiju kad ju pritisnemo rukom, a najveću kinetičku energiju ima u fazi sko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15:45Z</dcterms:created>
  <dc:creator>user</dc:creator>
  <dc:description/>
  <dc:language>en-US</dc:language>
  <cp:lastModifiedBy>user</cp:lastModifiedBy>
  <dcterms:modified xsi:type="dcterms:W3CDTF">2009-11-09T15:53:46Z</dcterms:modified>
  <cp:revision>5</cp:revision>
  <dc:subject/>
  <dc:title>Slide 1</dc:title>
</cp:coreProperties>
</file>