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34E-5940-47FD-B521-FED2A6CC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D84-C6D5-4C19-925F-7097EB5C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977-A1B3-4F65-87D5-C0DB1B0F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F5B-303B-498B-8068-C11A84AB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965-8F2B-4864-A241-7A4A041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672-5A0C-4E9C-A77E-4E4EF246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050-68CA-4502-905B-52FE96DF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E5D-F3E3-4934-BBA8-ECFB365D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D4C-6EEF-44F5-AF12-DE67DC49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B73-AB1E-4564-9750-4D966200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3FB-4C84-423C-AD33-EA95555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5AF-A8C3-48DA-BB7E-D24C9275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5BEB-9526-4D9C-823C-E892306BA44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IHVATLJIVI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IZVORI ENERGIJ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9840" y="400536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ija Sunca, energija vjetra, energija vode, energija biom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24640" y="0"/>
            <a:ext cx="1719360" cy="234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496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ergija vje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50920" y="1600200"/>
            <a:ext cx="50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kao posljedica nejednolikog zagrijavanja Zemljine površine i atmosfere dolazi do pokretanja zračnih masa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j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naga vjetra pokreće turbinu; turbina pokreće generator; mehanička energija trubine pretvara se u električnu energ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364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1080" y="62611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vjetroelekt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43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ergija v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cijalna ili kinetička energija tekuće vode pokreće turb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ija plime ili oseke: energija nadolazeće vode pokreće turb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94640" y="62373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hidroelekt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305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ergija bio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zgaranjem biomase nastaje vodena para koja se koristi za proizvodnju toplinske i električn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rada u bioplin i tekuća biogoriva (biodize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5480" y="3573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ogrjevno dr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1497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MASA-ogrjevno drvo, drvni otpad, piljevina, slama, ostaci iz stočarstva, komunalni ot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2946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5:33:17Z</dcterms:created>
  <dc:creator>user</dc:creator>
  <dc:description/>
  <dc:language>en-US</dc:language>
  <cp:lastModifiedBy>user</cp:lastModifiedBy>
  <dcterms:modified xsi:type="dcterms:W3CDTF">2009-11-09T15:52:45Z</dcterms:modified>
  <cp:revision>2</cp:revision>
  <dc:subject/>
  <dc:title>PRIHVATLJIVI  IZVORI ENERGIJE </dc:title>
</cp:coreProperties>
</file>