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FCD-0DE0-4578-8194-09FB611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DA0-53F9-4ABB-8489-A68EEEB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90A-3678-43C9-AB2C-88B6AC28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7DE-E51C-4CCE-B197-1940A3B4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2010-FDBF-4FD8-A19C-FB3EDBA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68DF-ACE0-4D28-AF82-A440A22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95B2-43D9-45C8-AA03-32D5F0EE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EAE8-68C9-4864-9D69-C18ECF5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E960-C761-4742-A3A1-F6E3C63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6D32-17DE-4B8A-B961-08DDBA1C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2B25-0C61-4AC2-BE52-788EE8C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605-27B5-462C-826E-8397832A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6E6A-4197-4C94-8599-5BA29B26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1E4-E7C6-42EE-ABE9-7FEE885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CBF2-69E2-4C76-9AFC-29140DB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0D27-2122-41F0-8426-6D198C6B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EE6-CD03-4E4C-818F-5BAE5F6A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C8F0-48D4-45CA-83A8-8A8B166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7823-2B96-4092-B687-BC0DA5A1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2936-4D9A-4A5F-AA85-52C36850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BF37-A9D0-4BF9-ADEF-B864D33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D646-7101-417B-8044-39A04D1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BBC-0D57-4799-AEE2-756AC876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9EDA-EBD8-407C-AD3A-DEE52167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C66C-5ABB-4E8E-9A62-0DAE6AC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287C-D040-4EA4-9855-2CF9DED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7B59-A1FC-42F0-A8D6-CC83955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9561-BF44-4254-BD0C-BD745AB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6E24-37F1-4D21-9824-3E4C2F9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AF31-5019-43CC-8556-1588E83D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F04-9C3C-45A7-BC42-CFD38771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43E-47AA-4196-BC09-042A72B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DA8-1E8F-4B9D-889C-623DAAE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CF0-26AA-46CE-AE5E-5A09C72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EBE-1638-47AC-BA0C-C8E71DD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411-76BD-42F4-9316-FA67D3C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DC6-5D85-4843-BB52-4FBA1354D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BFB1-D1C7-4A87-BABA-64CD27FE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B27D-4412-4449-92EC-1A4C60AC4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87640" y="4941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  <a:ea typeface="Arial"/>
              </a:rPr>
              <a:t>PRIR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2843280" y="4797360"/>
            <a:ext cx="3457440" cy="935280"/>
          </a:xfrm>
          <a:custGeom>
            <a:avLst/>
            <a:gdLst>
              <a:gd name="textAreaLeft" fmla="*/ 60480 w 3457440"/>
              <a:gd name="textAreaRight" fmla="*/ 3396960 w 34574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79826" h="21600">
                <a:moveTo>
                  <a:pt x="0" y="0"/>
                </a:moveTo>
                <a:lnTo>
                  <a:pt x="79826" y="0"/>
                </a:lnTo>
                <a:lnTo>
                  <a:pt x="79826" y="21600"/>
                </a:lnTo>
                <a:lnTo>
                  <a:pt x="0" y="21600"/>
                </a:lnTo>
                <a:close/>
              </a:path>
              <a:path fill="lightenLess" w="79826" h="21600">
                <a:moveTo>
                  <a:pt x="0" y="0"/>
                </a:moveTo>
                <a:lnTo>
                  <a:pt x="79826" y="0"/>
                </a:lnTo>
                <a:lnTo>
                  <a:pt x="78426" y="1400"/>
                </a:lnTo>
                <a:lnTo>
                  <a:pt x="1400" y="1400"/>
                </a:lnTo>
                <a:close/>
              </a:path>
              <a:path fill="darken" w="79826" h="21600">
                <a:moveTo>
                  <a:pt x="79826" y="0"/>
                </a:moveTo>
                <a:lnTo>
                  <a:pt x="79826" y="21600"/>
                </a:lnTo>
                <a:lnTo>
                  <a:pt x="78426" y="20200"/>
                </a:lnTo>
                <a:lnTo>
                  <a:pt x="78426" y="1400"/>
                </a:lnTo>
                <a:close/>
              </a:path>
              <a:path fill="darkenLess" w="79826" h="21600">
                <a:moveTo>
                  <a:pt x="79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26" y="20200"/>
                </a:lnTo>
                <a:close/>
              </a:path>
              <a:path fill="lighten" w="79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RJEŠ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92000" y="981000"/>
          <a:ext cx="7812000" cy="3538080"/>
        </p:xfrm>
        <a:graphic>
          <a:graphicData uri="http://schemas.openxmlformats.org/drawingml/2006/table">
            <a:tbl>
              <a:tblPr/>
              <a:tblGrid>
                <a:gridCol w="1953000"/>
                <a:gridCol w="1953000"/>
                <a:gridCol w="1952640"/>
                <a:gridCol w="195336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EJSK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LAČ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OPAD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DRANSK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ZDAZEL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EDOZEM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RA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PTI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ŠU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JE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VNJ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863640" y="981000"/>
            <a:ext cx="1800360" cy="823680"/>
            <a:chOff x="863640" y="981000"/>
            <a:chExt cx="1800360" cy="823680"/>
          </a:xfrm>
        </p:grpSpPr>
        <p:sp>
          <p:nvSpPr>
            <p:cNvPr id="142" name=""/>
            <p:cNvSpPr/>
            <p:nvPr/>
          </p:nvSpPr>
          <p:spPr>
            <a:xfrm>
              <a:off x="863640" y="981000"/>
              <a:ext cx="180036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55200" y="1213560"/>
              <a:ext cx="5544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63640" y="1844640"/>
            <a:ext cx="1871640" cy="792360"/>
            <a:chOff x="863640" y="1844640"/>
            <a:chExt cx="1871640" cy="792360"/>
          </a:xfrm>
        </p:grpSpPr>
        <p:sp>
          <p:nvSpPr>
            <p:cNvPr id="145" name=""/>
            <p:cNvSpPr/>
            <p:nvPr/>
          </p:nvSpPr>
          <p:spPr>
            <a:xfrm>
              <a:off x="863640" y="184464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82920" y="20595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63640" y="2708280"/>
            <a:ext cx="1871640" cy="790560"/>
            <a:chOff x="863640" y="2708280"/>
            <a:chExt cx="1871640" cy="790560"/>
          </a:xfrm>
        </p:grpSpPr>
        <p:sp>
          <p:nvSpPr>
            <p:cNvPr id="148" name=""/>
            <p:cNvSpPr/>
            <p:nvPr/>
          </p:nvSpPr>
          <p:spPr>
            <a:xfrm>
              <a:off x="863640" y="270828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2920" y="288828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92000" y="3645000"/>
            <a:ext cx="1871640" cy="792000"/>
            <a:chOff x="792000" y="3645000"/>
            <a:chExt cx="1871640" cy="792000"/>
          </a:xfrm>
        </p:grpSpPr>
        <p:sp>
          <p:nvSpPr>
            <p:cNvPr id="151" name=""/>
            <p:cNvSpPr/>
            <p:nvPr/>
          </p:nvSpPr>
          <p:spPr>
            <a:xfrm>
              <a:off x="792000" y="3645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11280" y="382896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735280" y="981000"/>
            <a:ext cx="1871640" cy="792000"/>
            <a:chOff x="2735280" y="981000"/>
            <a:chExt cx="1871640" cy="792000"/>
          </a:xfrm>
        </p:grpSpPr>
        <p:sp>
          <p:nvSpPr>
            <p:cNvPr id="154" name=""/>
            <p:cNvSpPr/>
            <p:nvPr/>
          </p:nvSpPr>
          <p:spPr>
            <a:xfrm>
              <a:off x="2735280" y="981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119592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680000" y="981000"/>
            <a:ext cx="1871640" cy="792000"/>
            <a:chOff x="4680000" y="981000"/>
            <a:chExt cx="1871640" cy="792000"/>
          </a:xfrm>
        </p:grpSpPr>
        <p:sp>
          <p:nvSpPr>
            <p:cNvPr id="157" name=""/>
            <p:cNvSpPr/>
            <p:nvPr/>
          </p:nvSpPr>
          <p:spPr>
            <a:xfrm>
              <a:off x="4680000" y="981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9080" y="119592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32720" y="981000"/>
            <a:ext cx="1800000" cy="823680"/>
            <a:chOff x="6732720" y="981000"/>
            <a:chExt cx="1800000" cy="823680"/>
          </a:xfrm>
        </p:grpSpPr>
        <p:sp>
          <p:nvSpPr>
            <p:cNvPr id="160" name=""/>
            <p:cNvSpPr/>
            <p:nvPr/>
          </p:nvSpPr>
          <p:spPr>
            <a:xfrm>
              <a:off x="6732720" y="981000"/>
              <a:ext cx="180000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24280" y="1213560"/>
              <a:ext cx="55404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732720" y="1916280"/>
            <a:ext cx="1871640" cy="792000"/>
            <a:chOff x="6732720" y="1916280"/>
            <a:chExt cx="1871640" cy="792000"/>
          </a:xfrm>
        </p:grpSpPr>
        <p:sp>
          <p:nvSpPr>
            <p:cNvPr id="163" name=""/>
            <p:cNvSpPr/>
            <p:nvPr/>
          </p:nvSpPr>
          <p:spPr>
            <a:xfrm>
              <a:off x="6732720" y="191628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2000" y="213084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32720" y="2781360"/>
            <a:ext cx="1871640" cy="790560"/>
            <a:chOff x="6732720" y="2781360"/>
            <a:chExt cx="1871640" cy="790560"/>
          </a:xfrm>
        </p:grpSpPr>
        <p:sp>
          <p:nvSpPr>
            <p:cNvPr id="166" name=""/>
            <p:cNvSpPr/>
            <p:nvPr/>
          </p:nvSpPr>
          <p:spPr>
            <a:xfrm>
              <a:off x="6732720" y="278136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52000" y="29613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32720" y="3645000"/>
            <a:ext cx="1871640" cy="792000"/>
            <a:chOff x="6732720" y="3645000"/>
            <a:chExt cx="1871640" cy="792000"/>
          </a:xfrm>
        </p:grpSpPr>
        <p:sp>
          <p:nvSpPr>
            <p:cNvPr id="169" name=""/>
            <p:cNvSpPr/>
            <p:nvPr/>
          </p:nvSpPr>
          <p:spPr>
            <a:xfrm>
              <a:off x="6732720" y="3645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52000" y="382896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08360" y="1916280"/>
            <a:ext cx="1871640" cy="790560"/>
            <a:chOff x="2808360" y="1916280"/>
            <a:chExt cx="1871640" cy="790560"/>
          </a:xfrm>
        </p:grpSpPr>
        <p:sp>
          <p:nvSpPr>
            <p:cNvPr id="172" name=""/>
            <p:cNvSpPr/>
            <p:nvPr/>
          </p:nvSpPr>
          <p:spPr>
            <a:xfrm>
              <a:off x="2808360" y="191628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56000" y="213120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08360" y="2781360"/>
            <a:ext cx="1871640" cy="792000"/>
            <a:chOff x="2808360" y="2781360"/>
            <a:chExt cx="1871640" cy="792000"/>
          </a:xfrm>
        </p:grpSpPr>
        <p:sp>
          <p:nvSpPr>
            <p:cNvPr id="175" name=""/>
            <p:cNvSpPr/>
            <p:nvPr/>
          </p:nvSpPr>
          <p:spPr>
            <a:xfrm>
              <a:off x="2808360" y="2781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6000" y="299628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08360" y="3645000"/>
            <a:ext cx="1871640" cy="792000"/>
            <a:chOff x="2808360" y="3645000"/>
            <a:chExt cx="1871640" cy="792000"/>
          </a:xfrm>
        </p:grpSpPr>
        <p:sp>
          <p:nvSpPr>
            <p:cNvPr id="178" name=""/>
            <p:cNvSpPr/>
            <p:nvPr/>
          </p:nvSpPr>
          <p:spPr>
            <a:xfrm>
              <a:off x="2808360" y="3645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56000" y="3828960"/>
              <a:ext cx="5763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716360" y="2781360"/>
            <a:ext cx="1871640" cy="792000"/>
            <a:chOff x="4716360" y="2781360"/>
            <a:chExt cx="1871640" cy="792000"/>
          </a:xfrm>
        </p:grpSpPr>
        <p:sp>
          <p:nvSpPr>
            <p:cNvPr id="181" name=""/>
            <p:cNvSpPr/>
            <p:nvPr/>
          </p:nvSpPr>
          <p:spPr>
            <a:xfrm>
              <a:off x="4716360" y="2781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65440" y="299628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16360" y="3645000"/>
            <a:ext cx="1871640" cy="792000"/>
            <a:chOff x="4716360" y="3645000"/>
            <a:chExt cx="1871640" cy="792000"/>
          </a:xfrm>
        </p:grpSpPr>
        <p:sp>
          <p:nvSpPr>
            <p:cNvPr id="184" name=""/>
            <p:cNvSpPr/>
            <p:nvPr/>
          </p:nvSpPr>
          <p:spPr>
            <a:xfrm>
              <a:off x="4716360" y="3645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5440" y="3828960"/>
              <a:ext cx="57600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51280" y="1916280"/>
            <a:ext cx="1871640" cy="792000"/>
            <a:chOff x="4751280" y="1916280"/>
            <a:chExt cx="1871640" cy="792000"/>
          </a:xfrm>
        </p:grpSpPr>
        <p:sp>
          <p:nvSpPr>
            <p:cNvPr id="187" name=""/>
            <p:cNvSpPr/>
            <p:nvPr/>
          </p:nvSpPr>
          <p:spPr>
            <a:xfrm>
              <a:off x="4751280" y="191628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00360" y="213084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94440" y="1987920"/>
            <a:ext cx="622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PRAVILA SKUPLJANJ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I PREŠANJA BILJAKA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60280"/>
            <a:ext cx="5038920" cy="62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11640" y="5084640"/>
            <a:ext cx="2905200" cy="1419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42920" y="331920"/>
            <a:ext cx="712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13. rujna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Ana Kova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listopadna š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vrt u Mačkov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hrast lužnj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348000" y="1844640"/>
            <a:ext cx="2590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1440" y="2133720"/>
            <a:ext cx="914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3:15:16Z</dcterms:created>
  <dc:creator>user</dc:creator>
  <dc:description/>
  <dc:language>en-US</dc:language>
  <cp:lastModifiedBy>user</cp:lastModifiedBy>
  <dcterms:modified xsi:type="dcterms:W3CDTF">2009-11-09T15:47:15Z</dcterms:modified>
  <cp:revision>7</cp:revision>
  <dc:subject/>
  <dc:title>Slide 1</dc:title>
</cp:coreProperties>
</file>