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AA1-7FBB-45A1-8352-8158462F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720-A438-41F0-AC74-FD64FAE8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573-FDDE-48F0-9C98-6CBB4EA7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78CB-6455-4CE9-9B70-A61D49A0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0AB-2621-4778-9327-4577DF50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6EB-4CB3-4B98-B76F-B630A964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74E-F597-4AEE-A899-ACA77019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658-109A-474C-822F-EE613A56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53A-E50D-4350-9A0B-A757E36A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257-B8F3-4B71-96C8-E84379E2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EFDC-B1C3-42E4-96C2-FF9EBA6C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090-D114-460B-914B-FAB63794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DADB-9648-47DD-BC19-2A27CAC49734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80520" y="549360"/>
            <a:ext cx="50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ZAŠTITA PRIR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1439640" cy="1287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00360" y="1989000"/>
            <a:ext cx="1440000" cy="127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71640" y="1989000"/>
            <a:ext cx="1441440" cy="1298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300720" y="1989000"/>
            <a:ext cx="1440000" cy="130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39640" y="3573360"/>
            <a:ext cx="820764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55640" y="4762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844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U RH UGROŽENO JE OKO 200 BILJNIH I 200 ŽIVOTINJSKIH VR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8000" y="5013360"/>
            <a:ext cx="43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RVENA KNJIGA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popis ugroženih vr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041000" y="5373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OCKAV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34240" y="249228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O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22280" y="43657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LJET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80240" y="156204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ŽIK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84960" y="335772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AGAJEV LIKOV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1560" y="212760"/>
            <a:ext cx="43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NEKE UGROŽENE BILJ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2664000" cy="2359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12000" y="1700280"/>
            <a:ext cx="2592360" cy="2292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71640" y="4005360"/>
            <a:ext cx="2520720" cy="2271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012000" y="3924360"/>
            <a:ext cx="2736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96240" y="5881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U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27560" y="12733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0560" y="38656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JEV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25720" y="177804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TICE PJ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75760" y="24256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ŽDEVNJ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74840" y="523404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ELE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20400" y="314640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MEĐA Ž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54160" y="458640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ŠUMSKI MR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7880" y="212760"/>
            <a:ext cx="50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NEKE UGROŽENE ŽIVOTI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6920" y="1346040"/>
            <a:ext cx="2737080" cy="244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24360" y="1335240"/>
            <a:ext cx="2664000" cy="2403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971640" y="3892680"/>
            <a:ext cx="2592360" cy="2400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796000" y="3895560"/>
            <a:ext cx="259236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715000" cy="53247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CIONALNI PARK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85880" y="22050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SNJ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97080" y="299736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ITVIČ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EZ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29200" y="29242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RIJ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46440" y="278136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JEVER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LE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66440" y="36450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KLE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77360" y="4149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R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72520" y="422100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ORN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88760" y="558972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L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KOVI PRIR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702040" cy="5402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4360" y="5229360"/>
            <a:ext cx="67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62000" y="1700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DVED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8160" y="1413000"/>
            <a:ext cx="188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MOBORSK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ŽUMBERAČ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OR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34120" y="292428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NJS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65800" y="22050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PUK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2920" y="53737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OKO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3200" y="242100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66280" y="3500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LE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77880" y="1700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OPAČKI 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92640" y="422100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LAŠĆ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03120" y="450864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RANSKO JE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1125360"/>
            <a:ext cx="8569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"Zakon o zaštiti prirode" – 8 kategorija zaštite u Republici Hrvatsko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Nacionalni parkovi (Plitvička jezera, Paklenica, Mljet, Risnjak, Kornati, Krka, Brijuni i Sjeverni Vele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Strogi rezervati (Bijele stijene, Samarske stijene, Rožanski i Hajdučki kukov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arkovi prirode (Lonjsko polje, Kopački rit, Biokovo, Velebit, Medvednica, Telašćica, Papuk, Žumberačko gorje, Samoborsko gorje, Učka, Vransko jezer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1:52:02Z</dcterms:created>
  <dc:creator>user</dc:creator>
  <dc:description/>
  <dc:language>en-US</dc:language>
  <cp:lastModifiedBy>user</cp:lastModifiedBy>
  <dcterms:modified xsi:type="dcterms:W3CDTF">2009-11-09T15:51:00Z</dcterms:modified>
  <cp:revision>3</cp:revision>
  <dc:subject/>
  <dc:title>Slide 1</dc:title>
</cp:coreProperties>
</file>