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147-4C76-4EFE-8887-3F0E13CF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117-E497-4CBE-BA09-DD7972FE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9C1-AA4F-4ACA-9C8B-CA859996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7B9-870B-4B1F-8C54-B6F70670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EA0-4881-4546-9FFF-E09F604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4EB-3737-45FD-95D5-83E42F0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7F5-5D32-46E1-8CF8-AF2079F0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097-0A42-4ADE-A77E-5208112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F45-2CC8-4E49-988F-681761F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A96-4D07-442B-984C-492573E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E3E-961F-4DE6-82E4-878647A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263-51AA-472D-8B83-08C454B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BD2-5745-4E2B-B6EC-701EB3B2A9C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7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RASPROSTRANJENOST ŽIVOTNIH ZAJEDNICA ŠUMA U HRVATSKOJ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16280" y="42210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opadna šuma u j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45320" y="4221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vazdazelena š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vjeti za razvoj šum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j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dmorska vi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3160" y="472428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00"/>
                </a:solidFill>
                <a:latin typeface="Comic Sans MS"/>
              </a:rPr>
              <a:t>ŠU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267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038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6764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6800" y="47520"/>
            <a:ext cx="68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Šume kontinentalnog dijela Hrvats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314720" cy="161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13957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4941720"/>
            <a:ext cx="1314720" cy="16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00" y="1371600"/>
            <a:ext cx="1181160" cy="3543480"/>
          </a:xfrm>
          <a:custGeom>
            <a:avLst/>
            <a:gdLst/>
            <a:ahLst/>
            <a:rect l="l" t="t" r="r" b="b"/>
            <a:pathLst>
              <a:path w="744" h="2232">
                <a:moveTo>
                  <a:pt x="0" y="1040"/>
                </a:moveTo>
                <a:cubicBezTo>
                  <a:pt x="12" y="993"/>
                  <a:pt x="15" y="947"/>
                  <a:pt x="56" y="920"/>
                </a:cubicBezTo>
                <a:cubicBezTo>
                  <a:pt x="75" y="864"/>
                  <a:pt x="95" y="817"/>
                  <a:pt x="128" y="768"/>
                </a:cubicBezTo>
                <a:cubicBezTo>
                  <a:pt x="150" y="735"/>
                  <a:pt x="149" y="703"/>
                  <a:pt x="184" y="680"/>
                </a:cubicBezTo>
                <a:cubicBezTo>
                  <a:pt x="206" y="647"/>
                  <a:pt x="213" y="613"/>
                  <a:pt x="224" y="576"/>
                </a:cubicBezTo>
                <a:cubicBezTo>
                  <a:pt x="232" y="549"/>
                  <a:pt x="248" y="531"/>
                  <a:pt x="256" y="504"/>
                </a:cubicBezTo>
                <a:cubicBezTo>
                  <a:pt x="276" y="435"/>
                  <a:pt x="280" y="368"/>
                  <a:pt x="312" y="304"/>
                </a:cubicBezTo>
                <a:cubicBezTo>
                  <a:pt x="317" y="277"/>
                  <a:pt x="326" y="251"/>
                  <a:pt x="328" y="224"/>
                </a:cubicBezTo>
                <a:cubicBezTo>
                  <a:pt x="334" y="157"/>
                  <a:pt x="309" y="45"/>
                  <a:pt x="376" y="0"/>
                </a:cubicBezTo>
                <a:cubicBezTo>
                  <a:pt x="392" y="62"/>
                  <a:pt x="407" y="133"/>
                  <a:pt x="432" y="192"/>
                </a:cubicBezTo>
                <a:cubicBezTo>
                  <a:pt x="462" y="262"/>
                  <a:pt x="437" y="173"/>
                  <a:pt x="456" y="240"/>
                </a:cubicBezTo>
                <a:cubicBezTo>
                  <a:pt x="470" y="287"/>
                  <a:pt x="476" y="336"/>
                  <a:pt x="488" y="384"/>
                </a:cubicBezTo>
                <a:cubicBezTo>
                  <a:pt x="498" y="604"/>
                  <a:pt x="500" y="714"/>
                  <a:pt x="536" y="896"/>
                </a:cubicBezTo>
                <a:cubicBezTo>
                  <a:pt x="539" y="997"/>
                  <a:pt x="539" y="1099"/>
                  <a:pt x="544" y="1200"/>
                </a:cubicBezTo>
                <a:cubicBezTo>
                  <a:pt x="545" y="1223"/>
                  <a:pt x="561" y="1242"/>
                  <a:pt x="568" y="1264"/>
                </a:cubicBezTo>
                <a:cubicBezTo>
                  <a:pt x="589" y="1333"/>
                  <a:pt x="608" y="1385"/>
                  <a:pt x="640" y="1448"/>
                </a:cubicBezTo>
                <a:cubicBezTo>
                  <a:pt x="668" y="1503"/>
                  <a:pt x="665" y="1573"/>
                  <a:pt x="688" y="1632"/>
                </a:cubicBezTo>
                <a:cubicBezTo>
                  <a:pt x="705" y="1770"/>
                  <a:pt x="691" y="1910"/>
                  <a:pt x="712" y="2048"/>
                </a:cubicBezTo>
                <a:cubicBezTo>
                  <a:pt x="721" y="2110"/>
                  <a:pt x="744" y="2169"/>
                  <a:pt x="744" y="22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5480" y="1892160"/>
            <a:ext cx="774720" cy="1181160"/>
          </a:xfrm>
          <a:custGeom>
            <a:avLst/>
            <a:gdLst/>
            <a:ahLst/>
            <a:rect l="l" t="t" r="r" b="b"/>
            <a:pathLst>
              <a:path w="488" h="744">
                <a:moveTo>
                  <a:pt x="0" y="400"/>
                </a:moveTo>
                <a:cubicBezTo>
                  <a:pt x="20" y="341"/>
                  <a:pt x="4" y="364"/>
                  <a:pt x="40" y="328"/>
                </a:cubicBezTo>
                <a:cubicBezTo>
                  <a:pt x="58" y="274"/>
                  <a:pt x="33" y="333"/>
                  <a:pt x="72" y="288"/>
                </a:cubicBezTo>
                <a:cubicBezTo>
                  <a:pt x="125" y="228"/>
                  <a:pt x="79" y="248"/>
                  <a:pt x="128" y="232"/>
                </a:cubicBezTo>
                <a:cubicBezTo>
                  <a:pt x="157" y="144"/>
                  <a:pt x="111" y="277"/>
                  <a:pt x="152" y="184"/>
                </a:cubicBezTo>
                <a:cubicBezTo>
                  <a:pt x="170" y="142"/>
                  <a:pt x="175" y="102"/>
                  <a:pt x="200" y="64"/>
                </a:cubicBezTo>
                <a:cubicBezTo>
                  <a:pt x="209" y="28"/>
                  <a:pt x="212" y="12"/>
                  <a:pt x="248" y="0"/>
                </a:cubicBezTo>
                <a:cubicBezTo>
                  <a:pt x="307" y="20"/>
                  <a:pt x="287" y="72"/>
                  <a:pt x="336" y="104"/>
                </a:cubicBezTo>
                <a:cubicBezTo>
                  <a:pt x="349" y="167"/>
                  <a:pt x="355" y="233"/>
                  <a:pt x="368" y="296"/>
                </a:cubicBezTo>
                <a:cubicBezTo>
                  <a:pt x="381" y="357"/>
                  <a:pt x="380" y="316"/>
                  <a:pt x="400" y="360"/>
                </a:cubicBezTo>
                <a:cubicBezTo>
                  <a:pt x="420" y="406"/>
                  <a:pt x="428" y="444"/>
                  <a:pt x="464" y="480"/>
                </a:cubicBezTo>
                <a:cubicBezTo>
                  <a:pt x="477" y="545"/>
                  <a:pt x="481" y="606"/>
                  <a:pt x="472" y="672"/>
                </a:cubicBezTo>
                <a:cubicBezTo>
                  <a:pt x="476" y="691"/>
                  <a:pt x="488" y="723"/>
                  <a:pt x="488" y="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8160" y="2271600"/>
            <a:ext cx="266760" cy="306360"/>
          </a:xfrm>
          <a:custGeom>
            <a:avLst/>
            <a:gdLst/>
            <a:ahLst/>
            <a:rect l="l" t="t" r="r" b="b"/>
            <a:pathLst>
              <a:path w="168" h="193">
                <a:moveTo>
                  <a:pt x="168" y="193"/>
                </a:moveTo>
                <a:cubicBezTo>
                  <a:pt x="158" y="154"/>
                  <a:pt x="133" y="127"/>
                  <a:pt x="120" y="89"/>
                </a:cubicBezTo>
                <a:cubicBezTo>
                  <a:pt x="112" y="24"/>
                  <a:pt x="124" y="0"/>
                  <a:pt x="56" y="17"/>
                </a:cubicBezTo>
                <a:cubicBezTo>
                  <a:pt x="32" y="64"/>
                  <a:pt x="44" y="38"/>
                  <a:pt x="24" y="97"/>
                </a:cubicBezTo>
                <a:cubicBezTo>
                  <a:pt x="21" y="107"/>
                  <a:pt x="20" y="119"/>
                  <a:pt x="16" y="129"/>
                </a:cubicBezTo>
                <a:cubicBezTo>
                  <a:pt x="12" y="138"/>
                  <a:pt x="0" y="153"/>
                  <a:pt x="0" y="1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04840" y="4127400"/>
            <a:ext cx="1054080" cy="2362320"/>
          </a:xfrm>
          <a:custGeom>
            <a:avLst/>
            <a:gdLst/>
            <a:ahLst/>
            <a:rect l="l" t="t" r="r" b="b"/>
            <a:pathLst>
              <a:path w="664" h="1488">
                <a:moveTo>
                  <a:pt x="0" y="48"/>
                </a:moveTo>
                <a:cubicBezTo>
                  <a:pt x="27" y="30"/>
                  <a:pt x="34" y="10"/>
                  <a:pt x="64" y="0"/>
                </a:cubicBezTo>
                <a:cubicBezTo>
                  <a:pt x="85" y="3"/>
                  <a:pt x="107" y="3"/>
                  <a:pt x="128" y="8"/>
                </a:cubicBezTo>
                <a:cubicBezTo>
                  <a:pt x="144" y="12"/>
                  <a:pt x="176" y="24"/>
                  <a:pt x="176" y="24"/>
                </a:cubicBezTo>
                <a:cubicBezTo>
                  <a:pt x="215" y="102"/>
                  <a:pt x="167" y="25"/>
                  <a:pt x="216" y="64"/>
                </a:cubicBezTo>
                <a:cubicBezTo>
                  <a:pt x="243" y="85"/>
                  <a:pt x="234" y="111"/>
                  <a:pt x="272" y="136"/>
                </a:cubicBezTo>
                <a:cubicBezTo>
                  <a:pt x="291" y="193"/>
                  <a:pt x="279" y="170"/>
                  <a:pt x="304" y="208"/>
                </a:cubicBezTo>
                <a:cubicBezTo>
                  <a:pt x="307" y="269"/>
                  <a:pt x="285" y="361"/>
                  <a:pt x="344" y="400"/>
                </a:cubicBezTo>
                <a:cubicBezTo>
                  <a:pt x="359" y="445"/>
                  <a:pt x="368" y="493"/>
                  <a:pt x="408" y="520"/>
                </a:cubicBezTo>
                <a:cubicBezTo>
                  <a:pt x="416" y="544"/>
                  <a:pt x="428" y="567"/>
                  <a:pt x="432" y="592"/>
                </a:cubicBezTo>
                <a:cubicBezTo>
                  <a:pt x="435" y="610"/>
                  <a:pt x="438" y="644"/>
                  <a:pt x="448" y="664"/>
                </a:cubicBezTo>
                <a:cubicBezTo>
                  <a:pt x="486" y="740"/>
                  <a:pt x="439" y="612"/>
                  <a:pt x="480" y="736"/>
                </a:cubicBezTo>
                <a:cubicBezTo>
                  <a:pt x="492" y="773"/>
                  <a:pt x="498" y="807"/>
                  <a:pt x="520" y="840"/>
                </a:cubicBezTo>
                <a:cubicBezTo>
                  <a:pt x="551" y="966"/>
                  <a:pt x="510" y="1105"/>
                  <a:pt x="584" y="1216"/>
                </a:cubicBezTo>
                <a:cubicBezTo>
                  <a:pt x="599" y="1274"/>
                  <a:pt x="614" y="1335"/>
                  <a:pt x="632" y="1392"/>
                </a:cubicBezTo>
                <a:cubicBezTo>
                  <a:pt x="632" y="1392"/>
                  <a:pt x="652" y="1452"/>
                  <a:pt x="656" y="1464"/>
                </a:cubicBezTo>
                <a:cubicBezTo>
                  <a:pt x="659" y="1472"/>
                  <a:pt x="664" y="1488"/>
                  <a:pt x="664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067280" y="4797360"/>
            <a:ext cx="230328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524720" y="3355920"/>
            <a:ext cx="1619280" cy="93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692360" y="582480"/>
            <a:ext cx="6264360" cy="854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780000" y="1413000"/>
            <a:ext cx="2349360" cy="95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411280" y="2349360"/>
            <a:ext cx="2043360" cy="619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258920" y="3068640"/>
            <a:ext cx="33130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2195640" y="4724280"/>
            <a:ext cx="184140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95560" y="901800"/>
            <a:ext cx="1727280" cy="2057400"/>
          </a:xfrm>
          <a:custGeom>
            <a:avLst/>
            <a:gdLst/>
            <a:ahLst/>
            <a:rect l="l" t="t" r="r" b="b"/>
            <a:pathLst>
              <a:path w="1088" h="1296">
                <a:moveTo>
                  <a:pt x="0" y="392"/>
                </a:moveTo>
                <a:cubicBezTo>
                  <a:pt x="19" y="335"/>
                  <a:pt x="7" y="358"/>
                  <a:pt x="32" y="320"/>
                </a:cubicBezTo>
                <a:cubicBezTo>
                  <a:pt x="35" y="309"/>
                  <a:pt x="37" y="299"/>
                  <a:pt x="40" y="288"/>
                </a:cubicBezTo>
                <a:cubicBezTo>
                  <a:pt x="45" y="272"/>
                  <a:pt x="56" y="240"/>
                  <a:pt x="56" y="240"/>
                </a:cubicBezTo>
                <a:cubicBezTo>
                  <a:pt x="63" y="160"/>
                  <a:pt x="64" y="79"/>
                  <a:pt x="80" y="0"/>
                </a:cubicBezTo>
                <a:cubicBezTo>
                  <a:pt x="130" y="75"/>
                  <a:pt x="120" y="176"/>
                  <a:pt x="160" y="256"/>
                </a:cubicBezTo>
                <a:cubicBezTo>
                  <a:pt x="165" y="291"/>
                  <a:pt x="159" y="330"/>
                  <a:pt x="176" y="360"/>
                </a:cubicBezTo>
                <a:cubicBezTo>
                  <a:pt x="180" y="367"/>
                  <a:pt x="192" y="365"/>
                  <a:pt x="200" y="368"/>
                </a:cubicBezTo>
                <a:cubicBezTo>
                  <a:pt x="252" y="334"/>
                  <a:pt x="264" y="280"/>
                  <a:pt x="296" y="232"/>
                </a:cubicBezTo>
                <a:cubicBezTo>
                  <a:pt x="317" y="147"/>
                  <a:pt x="288" y="247"/>
                  <a:pt x="320" y="176"/>
                </a:cubicBezTo>
                <a:cubicBezTo>
                  <a:pt x="346" y="118"/>
                  <a:pt x="316" y="135"/>
                  <a:pt x="360" y="120"/>
                </a:cubicBezTo>
                <a:cubicBezTo>
                  <a:pt x="363" y="112"/>
                  <a:pt x="360" y="100"/>
                  <a:pt x="368" y="96"/>
                </a:cubicBezTo>
                <a:cubicBezTo>
                  <a:pt x="376" y="92"/>
                  <a:pt x="389" y="96"/>
                  <a:pt x="392" y="104"/>
                </a:cubicBezTo>
                <a:cubicBezTo>
                  <a:pt x="401" y="129"/>
                  <a:pt x="397" y="157"/>
                  <a:pt x="400" y="184"/>
                </a:cubicBezTo>
                <a:cubicBezTo>
                  <a:pt x="408" y="251"/>
                  <a:pt x="424" y="317"/>
                  <a:pt x="432" y="384"/>
                </a:cubicBezTo>
                <a:cubicBezTo>
                  <a:pt x="480" y="312"/>
                  <a:pt x="496" y="224"/>
                  <a:pt x="544" y="152"/>
                </a:cubicBezTo>
                <a:cubicBezTo>
                  <a:pt x="550" y="153"/>
                  <a:pt x="612" y="162"/>
                  <a:pt x="624" y="168"/>
                </a:cubicBezTo>
                <a:cubicBezTo>
                  <a:pt x="749" y="230"/>
                  <a:pt x="646" y="194"/>
                  <a:pt x="712" y="216"/>
                </a:cubicBezTo>
                <a:cubicBezTo>
                  <a:pt x="734" y="249"/>
                  <a:pt x="747" y="286"/>
                  <a:pt x="768" y="320"/>
                </a:cubicBezTo>
                <a:cubicBezTo>
                  <a:pt x="778" y="336"/>
                  <a:pt x="794" y="350"/>
                  <a:pt x="800" y="368"/>
                </a:cubicBezTo>
                <a:cubicBezTo>
                  <a:pt x="814" y="409"/>
                  <a:pt x="818" y="442"/>
                  <a:pt x="848" y="472"/>
                </a:cubicBezTo>
                <a:cubicBezTo>
                  <a:pt x="868" y="533"/>
                  <a:pt x="881" y="596"/>
                  <a:pt x="920" y="648"/>
                </a:cubicBezTo>
                <a:cubicBezTo>
                  <a:pt x="949" y="736"/>
                  <a:pt x="903" y="603"/>
                  <a:pt x="944" y="696"/>
                </a:cubicBezTo>
                <a:cubicBezTo>
                  <a:pt x="975" y="766"/>
                  <a:pt x="940" y="724"/>
                  <a:pt x="984" y="768"/>
                </a:cubicBezTo>
                <a:cubicBezTo>
                  <a:pt x="1004" y="827"/>
                  <a:pt x="992" y="801"/>
                  <a:pt x="1016" y="848"/>
                </a:cubicBezTo>
                <a:cubicBezTo>
                  <a:pt x="1022" y="880"/>
                  <a:pt x="1023" y="913"/>
                  <a:pt x="1032" y="944"/>
                </a:cubicBezTo>
                <a:cubicBezTo>
                  <a:pt x="1045" y="993"/>
                  <a:pt x="1070" y="1037"/>
                  <a:pt x="1080" y="1088"/>
                </a:cubicBezTo>
                <a:cubicBezTo>
                  <a:pt x="1088" y="1285"/>
                  <a:pt x="1088" y="1216"/>
                  <a:pt x="1088" y="1296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0080" y="901800"/>
            <a:ext cx="876240" cy="1854000"/>
          </a:xfrm>
          <a:custGeom>
            <a:avLst/>
            <a:gdLst/>
            <a:ahLst/>
            <a:rect l="l" t="t" r="r" b="b"/>
            <a:pathLst>
              <a:path w="552" h="1168">
                <a:moveTo>
                  <a:pt x="0" y="392"/>
                </a:moveTo>
                <a:cubicBezTo>
                  <a:pt x="3" y="381"/>
                  <a:pt x="3" y="370"/>
                  <a:pt x="8" y="360"/>
                </a:cubicBezTo>
                <a:cubicBezTo>
                  <a:pt x="17" y="343"/>
                  <a:pt x="34" y="330"/>
                  <a:pt x="40" y="312"/>
                </a:cubicBezTo>
                <a:cubicBezTo>
                  <a:pt x="45" y="296"/>
                  <a:pt x="48" y="279"/>
                  <a:pt x="56" y="264"/>
                </a:cubicBezTo>
                <a:cubicBezTo>
                  <a:pt x="61" y="253"/>
                  <a:pt x="68" y="243"/>
                  <a:pt x="72" y="232"/>
                </a:cubicBezTo>
                <a:cubicBezTo>
                  <a:pt x="90" y="186"/>
                  <a:pt x="82" y="169"/>
                  <a:pt x="120" y="144"/>
                </a:cubicBezTo>
                <a:cubicBezTo>
                  <a:pt x="124" y="133"/>
                  <a:pt x="146" y="78"/>
                  <a:pt x="152" y="72"/>
                </a:cubicBezTo>
                <a:cubicBezTo>
                  <a:pt x="158" y="66"/>
                  <a:pt x="168" y="68"/>
                  <a:pt x="176" y="64"/>
                </a:cubicBezTo>
                <a:cubicBezTo>
                  <a:pt x="185" y="60"/>
                  <a:pt x="192" y="53"/>
                  <a:pt x="200" y="48"/>
                </a:cubicBezTo>
                <a:cubicBezTo>
                  <a:pt x="216" y="0"/>
                  <a:pt x="200" y="32"/>
                  <a:pt x="216" y="48"/>
                </a:cubicBezTo>
                <a:cubicBezTo>
                  <a:pt x="222" y="54"/>
                  <a:pt x="232" y="53"/>
                  <a:pt x="240" y="56"/>
                </a:cubicBezTo>
                <a:cubicBezTo>
                  <a:pt x="253" y="94"/>
                  <a:pt x="264" y="131"/>
                  <a:pt x="304" y="144"/>
                </a:cubicBezTo>
                <a:cubicBezTo>
                  <a:pt x="312" y="174"/>
                  <a:pt x="326" y="195"/>
                  <a:pt x="336" y="224"/>
                </a:cubicBezTo>
                <a:cubicBezTo>
                  <a:pt x="351" y="326"/>
                  <a:pt x="386" y="427"/>
                  <a:pt x="432" y="520"/>
                </a:cubicBezTo>
                <a:cubicBezTo>
                  <a:pt x="449" y="554"/>
                  <a:pt x="450" y="555"/>
                  <a:pt x="464" y="592"/>
                </a:cubicBezTo>
                <a:cubicBezTo>
                  <a:pt x="470" y="608"/>
                  <a:pt x="480" y="640"/>
                  <a:pt x="480" y="640"/>
                </a:cubicBezTo>
                <a:cubicBezTo>
                  <a:pt x="487" y="694"/>
                  <a:pt x="492" y="741"/>
                  <a:pt x="512" y="792"/>
                </a:cubicBezTo>
                <a:cubicBezTo>
                  <a:pt x="530" y="897"/>
                  <a:pt x="512" y="780"/>
                  <a:pt x="528" y="960"/>
                </a:cubicBezTo>
                <a:cubicBezTo>
                  <a:pt x="534" y="1029"/>
                  <a:pt x="552" y="1099"/>
                  <a:pt x="552" y="116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1452600"/>
            <a:ext cx="1728720" cy="598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560" y="5168880"/>
            <a:ext cx="3962160" cy="139680"/>
          </a:xfrm>
          <a:custGeom>
            <a:avLst/>
            <a:gdLst/>
            <a:ahLst/>
            <a:rect l="l" t="t" r="r" b="b"/>
            <a:pathLst>
              <a:path w="2496" h="88">
                <a:moveTo>
                  <a:pt x="0" y="40"/>
                </a:moveTo>
                <a:cubicBezTo>
                  <a:pt x="82" y="33"/>
                  <a:pt x="160" y="20"/>
                  <a:pt x="240" y="0"/>
                </a:cubicBezTo>
                <a:cubicBezTo>
                  <a:pt x="301" y="3"/>
                  <a:pt x="363" y="4"/>
                  <a:pt x="424" y="8"/>
                </a:cubicBezTo>
                <a:cubicBezTo>
                  <a:pt x="483" y="12"/>
                  <a:pt x="541" y="33"/>
                  <a:pt x="600" y="40"/>
                </a:cubicBezTo>
                <a:cubicBezTo>
                  <a:pt x="731" y="32"/>
                  <a:pt x="825" y="26"/>
                  <a:pt x="960" y="32"/>
                </a:cubicBezTo>
                <a:cubicBezTo>
                  <a:pt x="1007" y="44"/>
                  <a:pt x="1056" y="57"/>
                  <a:pt x="1104" y="64"/>
                </a:cubicBezTo>
                <a:cubicBezTo>
                  <a:pt x="1147" y="70"/>
                  <a:pt x="1232" y="80"/>
                  <a:pt x="1232" y="80"/>
                </a:cubicBezTo>
                <a:cubicBezTo>
                  <a:pt x="1357" y="70"/>
                  <a:pt x="1485" y="59"/>
                  <a:pt x="1608" y="32"/>
                </a:cubicBezTo>
                <a:cubicBezTo>
                  <a:pt x="1636" y="26"/>
                  <a:pt x="1661" y="9"/>
                  <a:pt x="1688" y="0"/>
                </a:cubicBezTo>
                <a:cubicBezTo>
                  <a:pt x="1862" y="6"/>
                  <a:pt x="1869" y="6"/>
                  <a:pt x="1992" y="32"/>
                </a:cubicBezTo>
                <a:cubicBezTo>
                  <a:pt x="2013" y="37"/>
                  <a:pt x="2035" y="37"/>
                  <a:pt x="2056" y="40"/>
                </a:cubicBezTo>
                <a:cubicBezTo>
                  <a:pt x="2088" y="45"/>
                  <a:pt x="2152" y="56"/>
                  <a:pt x="2152" y="56"/>
                </a:cubicBezTo>
                <a:cubicBezTo>
                  <a:pt x="2209" y="84"/>
                  <a:pt x="2274" y="80"/>
                  <a:pt x="2336" y="88"/>
                </a:cubicBezTo>
                <a:cubicBezTo>
                  <a:pt x="2391" y="81"/>
                  <a:pt x="2440" y="72"/>
                  <a:pt x="2496" y="72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51320"/>
            <a:ext cx="1066680" cy="460440"/>
          </a:xfrm>
          <a:custGeom>
            <a:avLst/>
            <a:gdLst/>
            <a:ahLst/>
            <a:rect l="l" t="t" r="r" b="b"/>
            <a:pathLst>
              <a:path w="672" h="290">
                <a:moveTo>
                  <a:pt x="0" y="290"/>
                </a:moveTo>
                <a:cubicBezTo>
                  <a:pt x="16" y="279"/>
                  <a:pt x="37" y="274"/>
                  <a:pt x="48" y="258"/>
                </a:cubicBezTo>
                <a:cubicBezTo>
                  <a:pt x="53" y="250"/>
                  <a:pt x="56" y="240"/>
                  <a:pt x="64" y="234"/>
                </a:cubicBezTo>
                <a:cubicBezTo>
                  <a:pt x="71" y="229"/>
                  <a:pt x="80" y="229"/>
                  <a:pt x="88" y="226"/>
                </a:cubicBezTo>
                <a:cubicBezTo>
                  <a:pt x="134" y="157"/>
                  <a:pt x="73" y="238"/>
                  <a:pt x="128" y="194"/>
                </a:cubicBezTo>
                <a:cubicBezTo>
                  <a:pt x="136" y="188"/>
                  <a:pt x="136" y="176"/>
                  <a:pt x="144" y="170"/>
                </a:cubicBezTo>
                <a:cubicBezTo>
                  <a:pt x="160" y="157"/>
                  <a:pt x="183" y="158"/>
                  <a:pt x="200" y="146"/>
                </a:cubicBezTo>
                <a:cubicBezTo>
                  <a:pt x="252" y="109"/>
                  <a:pt x="197" y="131"/>
                  <a:pt x="248" y="114"/>
                </a:cubicBezTo>
                <a:cubicBezTo>
                  <a:pt x="273" y="76"/>
                  <a:pt x="255" y="93"/>
                  <a:pt x="312" y="74"/>
                </a:cubicBezTo>
                <a:cubicBezTo>
                  <a:pt x="376" y="53"/>
                  <a:pt x="438" y="34"/>
                  <a:pt x="504" y="18"/>
                </a:cubicBezTo>
                <a:cubicBezTo>
                  <a:pt x="530" y="20"/>
                  <a:pt x="647" y="0"/>
                  <a:pt x="672" y="5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040" y="2882880"/>
            <a:ext cx="1841760" cy="762120"/>
          </a:xfrm>
          <a:custGeom>
            <a:avLst/>
            <a:gdLst/>
            <a:ahLst/>
            <a:rect l="l" t="t" r="r" b="b"/>
            <a:pathLst>
              <a:path w="1160" h="480">
                <a:moveTo>
                  <a:pt x="0" y="480"/>
                </a:moveTo>
                <a:cubicBezTo>
                  <a:pt x="12" y="463"/>
                  <a:pt x="30" y="450"/>
                  <a:pt x="40" y="432"/>
                </a:cubicBezTo>
                <a:cubicBezTo>
                  <a:pt x="78" y="364"/>
                  <a:pt x="28" y="398"/>
                  <a:pt x="88" y="368"/>
                </a:cubicBezTo>
                <a:cubicBezTo>
                  <a:pt x="103" y="322"/>
                  <a:pt x="119" y="275"/>
                  <a:pt x="160" y="248"/>
                </a:cubicBezTo>
                <a:cubicBezTo>
                  <a:pt x="180" y="188"/>
                  <a:pt x="151" y="260"/>
                  <a:pt x="192" y="208"/>
                </a:cubicBezTo>
                <a:cubicBezTo>
                  <a:pt x="236" y="153"/>
                  <a:pt x="155" y="214"/>
                  <a:pt x="224" y="168"/>
                </a:cubicBezTo>
                <a:cubicBezTo>
                  <a:pt x="244" y="108"/>
                  <a:pt x="294" y="95"/>
                  <a:pt x="352" y="80"/>
                </a:cubicBezTo>
                <a:cubicBezTo>
                  <a:pt x="396" y="14"/>
                  <a:pt x="586" y="28"/>
                  <a:pt x="648" y="24"/>
                </a:cubicBezTo>
                <a:cubicBezTo>
                  <a:pt x="803" y="28"/>
                  <a:pt x="1032" y="0"/>
                  <a:pt x="1160" y="12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679840"/>
            <a:ext cx="2070360" cy="406440"/>
          </a:xfrm>
          <a:custGeom>
            <a:avLst/>
            <a:gdLst/>
            <a:ahLst/>
            <a:rect l="l" t="t" r="r" b="b"/>
            <a:pathLst>
              <a:path w="1304" h="256">
                <a:moveTo>
                  <a:pt x="0" y="128"/>
                </a:moveTo>
                <a:cubicBezTo>
                  <a:pt x="107" y="115"/>
                  <a:pt x="195" y="82"/>
                  <a:pt x="296" y="48"/>
                </a:cubicBezTo>
                <a:cubicBezTo>
                  <a:pt x="370" y="23"/>
                  <a:pt x="452" y="19"/>
                  <a:pt x="528" y="0"/>
                </a:cubicBezTo>
                <a:cubicBezTo>
                  <a:pt x="661" y="9"/>
                  <a:pt x="805" y="9"/>
                  <a:pt x="936" y="48"/>
                </a:cubicBezTo>
                <a:cubicBezTo>
                  <a:pt x="984" y="62"/>
                  <a:pt x="1033" y="72"/>
                  <a:pt x="1080" y="88"/>
                </a:cubicBezTo>
                <a:cubicBezTo>
                  <a:pt x="1106" y="97"/>
                  <a:pt x="1152" y="128"/>
                  <a:pt x="1152" y="128"/>
                </a:cubicBezTo>
                <a:cubicBezTo>
                  <a:pt x="1171" y="157"/>
                  <a:pt x="1188" y="157"/>
                  <a:pt x="1216" y="176"/>
                </a:cubicBezTo>
                <a:cubicBezTo>
                  <a:pt x="1219" y="184"/>
                  <a:pt x="1218" y="194"/>
                  <a:pt x="1224" y="200"/>
                </a:cubicBezTo>
                <a:cubicBezTo>
                  <a:pt x="1230" y="206"/>
                  <a:pt x="1241" y="204"/>
                  <a:pt x="1248" y="208"/>
                </a:cubicBezTo>
                <a:cubicBezTo>
                  <a:pt x="1297" y="235"/>
                  <a:pt x="1289" y="225"/>
                  <a:pt x="1304" y="25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" y="812880"/>
            <a:ext cx="1168200" cy="1942920"/>
          </a:xfrm>
          <a:custGeom>
            <a:avLst/>
            <a:gdLst/>
            <a:ahLst/>
            <a:rect l="l" t="t" r="r" b="b"/>
            <a:pathLst>
              <a:path w="736" h="1224">
                <a:moveTo>
                  <a:pt x="0" y="1224"/>
                </a:moveTo>
                <a:cubicBezTo>
                  <a:pt x="23" y="1154"/>
                  <a:pt x="45" y="1081"/>
                  <a:pt x="56" y="1008"/>
                </a:cubicBezTo>
                <a:cubicBezTo>
                  <a:pt x="65" y="949"/>
                  <a:pt x="67" y="867"/>
                  <a:pt x="120" y="832"/>
                </a:cubicBezTo>
                <a:cubicBezTo>
                  <a:pt x="143" y="764"/>
                  <a:pt x="136" y="792"/>
                  <a:pt x="184" y="744"/>
                </a:cubicBezTo>
                <a:cubicBezTo>
                  <a:pt x="202" y="689"/>
                  <a:pt x="235" y="645"/>
                  <a:pt x="256" y="592"/>
                </a:cubicBezTo>
                <a:cubicBezTo>
                  <a:pt x="274" y="547"/>
                  <a:pt x="271" y="507"/>
                  <a:pt x="312" y="480"/>
                </a:cubicBezTo>
                <a:cubicBezTo>
                  <a:pt x="325" y="430"/>
                  <a:pt x="331" y="366"/>
                  <a:pt x="376" y="336"/>
                </a:cubicBezTo>
                <a:cubicBezTo>
                  <a:pt x="392" y="289"/>
                  <a:pt x="397" y="251"/>
                  <a:pt x="432" y="216"/>
                </a:cubicBezTo>
                <a:cubicBezTo>
                  <a:pt x="450" y="144"/>
                  <a:pt x="454" y="63"/>
                  <a:pt x="496" y="0"/>
                </a:cubicBezTo>
                <a:cubicBezTo>
                  <a:pt x="520" y="16"/>
                  <a:pt x="544" y="24"/>
                  <a:pt x="568" y="40"/>
                </a:cubicBezTo>
                <a:cubicBezTo>
                  <a:pt x="579" y="73"/>
                  <a:pt x="599" y="106"/>
                  <a:pt x="616" y="136"/>
                </a:cubicBezTo>
                <a:cubicBezTo>
                  <a:pt x="625" y="153"/>
                  <a:pt x="648" y="184"/>
                  <a:pt x="648" y="184"/>
                </a:cubicBezTo>
                <a:cubicBezTo>
                  <a:pt x="657" y="219"/>
                  <a:pt x="668" y="253"/>
                  <a:pt x="680" y="288"/>
                </a:cubicBezTo>
                <a:cubicBezTo>
                  <a:pt x="683" y="297"/>
                  <a:pt x="692" y="303"/>
                  <a:pt x="696" y="312"/>
                </a:cubicBezTo>
                <a:cubicBezTo>
                  <a:pt x="712" y="348"/>
                  <a:pt x="736" y="409"/>
                  <a:pt x="736" y="448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69240" y="3706920"/>
            <a:ext cx="2039760" cy="939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215120" y="4818240"/>
            <a:ext cx="1809720" cy="1425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140360" y="3535200"/>
            <a:ext cx="1668240" cy="158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04000" y="1052640"/>
            <a:ext cx="1944720" cy="133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692360" y="260280"/>
            <a:ext cx="5846760" cy="706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924360" y="5921280"/>
            <a:ext cx="237636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659640" y="5994360"/>
            <a:ext cx="2019240" cy="67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4932360" y="2970360"/>
            <a:ext cx="3587760" cy="69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971640" y="5991120"/>
            <a:ext cx="2458800" cy="63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971640" y="3036960"/>
            <a:ext cx="3070080" cy="59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900000" y="1454040"/>
            <a:ext cx="37134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6764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4280" y="6840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Šume primorskog dijela Hrvats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2171880" cy="273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171880" cy="27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1400040" cy="149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659640" y="2276640"/>
            <a:ext cx="1400040" cy="1495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95640" y="836640"/>
            <a:ext cx="5256000" cy="777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556000" y="2651040"/>
            <a:ext cx="4680000" cy="5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484360" y="4213080"/>
            <a:ext cx="496728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080" y="1854360"/>
            <a:ext cx="1612800" cy="1206360"/>
          </a:xfrm>
          <a:custGeom>
            <a:avLst/>
            <a:gdLst/>
            <a:ahLst/>
            <a:rect l="l" t="t" r="r" b="b"/>
            <a:pathLst>
              <a:path w="1016" h="760">
                <a:moveTo>
                  <a:pt x="0" y="760"/>
                </a:moveTo>
                <a:cubicBezTo>
                  <a:pt x="20" y="720"/>
                  <a:pt x="47" y="702"/>
                  <a:pt x="88" y="688"/>
                </a:cubicBezTo>
                <a:cubicBezTo>
                  <a:pt x="93" y="680"/>
                  <a:pt x="96" y="669"/>
                  <a:pt x="104" y="664"/>
                </a:cubicBezTo>
                <a:cubicBezTo>
                  <a:pt x="118" y="655"/>
                  <a:pt x="152" y="648"/>
                  <a:pt x="152" y="648"/>
                </a:cubicBezTo>
                <a:cubicBezTo>
                  <a:pt x="177" y="610"/>
                  <a:pt x="165" y="633"/>
                  <a:pt x="184" y="576"/>
                </a:cubicBezTo>
                <a:cubicBezTo>
                  <a:pt x="189" y="560"/>
                  <a:pt x="186" y="537"/>
                  <a:pt x="200" y="528"/>
                </a:cubicBezTo>
                <a:cubicBezTo>
                  <a:pt x="258" y="489"/>
                  <a:pt x="231" y="505"/>
                  <a:pt x="280" y="480"/>
                </a:cubicBezTo>
                <a:cubicBezTo>
                  <a:pt x="285" y="472"/>
                  <a:pt x="289" y="463"/>
                  <a:pt x="296" y="456"/>
                </a:cubicBezTo>
                <a:cubicBezTo>
                  <a:pt x="303" y="449"/>
                  <a:pt x="314" y="448"/>
                  <a:pt x="320" y="440"/>
                </a:cubicBezTo>
                <a:cubicBezTo>
                  <a:pt x="328" y="431"/>
                  <a:pt x="349" y="381"/>
                  <a:pt x="352" y="368"/>
                </a:cubicBezTo>
                <a:cubicBezTo>
                  <a:pt x="365" y="309"/>
                  <a:pt x="355" y="328"/>
                  <a:pt x="368" y="264"/>
                </a:cubicBezTo>
                <a:cubicBezTo>
                  <a:pt x="372" y="242"/>
                  <a:pt x="363" y="207"/>
                  <a:pt x="384" y="200"/>
                </a:cubicBezTo>
                <a:cubicBezTo>
                  <a:pt x="392" y="197"/>
                  <a:pt x="400" y="195"/>
                  <a:pt x="408" y="192"/>
                </a:cubicBezTo>
                <a:cubicBezTo>
                  <a:pt x="416" y="184"/>
                  <a:pt x="423" y="174"/>
                  <a:pt x="432" y="168"/>
                </a:cubicBezTo>
                <a:cubicBezTo>
                  <a:pt x="439" y="163"/>
                  <a:pt x="450" y="166"/>
                  <a:pt x="456" y="160"/>
                </a:cubicBezTo>
                <a:cubicBezTo>
                  <a:pt x="462" y="154"/>
                  <a:pt x="458" y="142"/>
                  <a:pt x="464" y="136"/>
                </a:cubicBezTo>
                <a:cubicBezTo>
                  <a:pt x="470" y="130"/>
                  <a:pt x="480" y="132"/>
                  <a:pt x="488" y="128"/>
                </a:cubicBezTo>
                <a:cubicBezTo>
                  <a:pt x="497" y="124"/>
                  <a:pt x="504" y="117"/>
                  <a:pt x="512" y="112"/>
                </a:cubicBezTo>
                <a:cubicBezTo>
                  <a:pt x="549" y="56"/>
                  <a:pt x="528" y="75"/>
                  <a:pt x="568" y="48"/>
                </a:cubicBezTo>
                <a:cubicBezTo>
                  <a:pt x="587" y="19"/>
                  <a:pt x="604" y="19"/>
                  <a:pt x="632" y="0"/>
                </a:cubicBezTo>
                <a:cubicBezTo>
                  <a:pt x="660" y="19"/>
                  <a:pt x="680" y="24"/>
                  <a:pt x="704" y="48"/>
                </a:cubicBezTo>
                <a:cubicBezTo>
                  <a:pt x="713" y="74"/>
                  <a:pt x="744" y="120"/>
                  <a:pt x="744" y="120"/>
                </a:cubicBezTo>
                <a:cubicBezTo>
                  <a:pt x="747" y="131"/>
                  <a:pt x="748" y="142"/>
                  <a:pt x="752" y="152"/>
                </a:cubicBezTo>
                <a:cubicBezTo>
                  <a:pt x="756" y="161"/>
                  <a:pt x="765" y="167"/>
                  <a:pt x="768" y="176"/>
                </a:cubicBezTo>
                <a:cubicBezTo>
                  <a:pt x="776" y="202"/>
                  <a:pt x="775" y="230"/>
                  <a:pt x="784" y="256"/>
                </a:cubicBezTo>
                <a:cubicBezTo>
                  <a:pt x="803" y="314"/>
                  <a:pt x="837" y="381"/>
                  <a:pt x="880" y="424"/>
                </a:cubicBezTo>
                <a:cubicBezTo>
                  <a:pt x="894" y="465"/>
                  <a:pt x="908" y="496"/>
                  <a:pt x="944" y="520"/>
                </a:cubicBezTo>
                <a:cubicBezTo>
                  <a:pt x="960" y="567"/>
                  <a:pt x="973" y="604"/>
                  <a:pt x="1016" y="632"/>
                </a:cubicBezTo>
                <a:cubicBezTo>
                  <a:pt x="1013" y="651"/>
                  <a:pt x="1008" y="688"/>
                  <a:pt x="1008" y="688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9160" y="2238480"/>
            <a:ext cx="1362240" cy="809640"/>
          </a:xfrm>
          <a:custGeom>
            <a:avLst/>
            <a:gdLst/>
            <a:ahLst/>
            <a:rect l="l" t="t" r="r" b="b"/>
            <a:pathLst>
              <a:path w="858" h="510">
                <a:moveTo>
                  <a:pt x="0" y="462"/>
                </a:moveTo>
                <a:cubicBezTo>
                  <a:pt x="14" y="421"/>
                  <a:pt x="19" y="383"/>
                  <a:pt x="56" y="358"/>
                </a:cubicBezTo>
                <a:cubicBezTo>
                  <a:pt x="67" y="342"/>
                  <a:pt x="82" y="328"/>
                  <a:pt x="88" y="310"/>
                </a:cubicBezTo>
                <a:cubicBezTo>
                  <a:pt x="91" y="302"/>
                  <a:pt x="89" y="291"/>
                  <a:pt x="96" y="286"/>
                </a:cubicBezTo>
                <a:cubicBezTo>
                  <a:pt x="110" y="276"/>
                  <a:pt x="144" y="270"/>
                  <a:pt x="144" y="270"/>
                </a:cubicBezTo>
                <a:cubicBezTo>
                  <a:pt x="177" y="245"/>
                  <a:pt x="201" y="230"/>
                  <a:pt x="240" y="214"/>
                </a:cubicBezTo>
                <a:cubicBezTo>
                  <a:pt x="264" y="190"/>
                  <a:pt x="284" y="185"/>
                  <a:pt x="312" y="166"/>
                </a:cubicBezTo>
                <a:cubicBezTo>
                  <a:pt x="330" y="129"/>
                  <a:pt x="353" y="96"/>
                  <a:pt x="376" y="62"/>
                </a:cubicBezTo>
                <a:cubicBezTo>
                  <a:pt x="381" y="55"/>
                  <a:pt x="378" y="44"/>
                  <a:pt x="384" y="38"/>
                </a:cubicBezTo>
                <a:cubicBezTo>
                  <a:pt x="390" y="32"/>
                  <a:pt x="400" y="33"/>
                  <a:pt x="408" y="30"/>
                </a:cubicBezTo>
                <a:cubicBezTo>
                  <a:pt x="413" y="22"/>
                  <a:pt x="414" y="7"/>
                  <a:pt x="424" y="6"/>
                </a:cubicBezTo>
                <a:cubicBezTo>
                  <a:pt x="481" y="0"/>
                  <a:pt x="534" y="45"/>
                  <a:pt x="584" y="62"/>
                </a:cubicBezTo>
                <a:cubicBezTo>
                  <a:pt x="603" y="90"/>
                  <a:pt x="616" y="99"/>
                  <a:pt x="648" y="110"/>
                </a:cubicBezTo>
                <a:cubicBezTo>
                  <a:pt x="685" y="165"/>
                  <a:pt x="662" y="152"/>
                  <a:pt x="704" y="166"/>
                </a:cubicBezTo>
                <a:cubicBezTo>
                  <a:pt x="720" y="213"/>
                  <a:pt x="730" y="262"/>
                  <a:pt x="744" y="310"/>
                </a:cubicBezTo>
                <a:cubicBezTo>
                  <a:pt x="747" y="321"/>
                  <a:pt x="746" y="333"/>
                  <a:pt x="752" y="342"/>
                </a:cubicBezTo>
                <a:cubicBezTo>
                  <a:pt x="757" y="350"/>
                  <a:pt x="768" y="353"/>
                  <a:pt x="776" y="358"/>
                </a:cubicBezTo>
                <a:cubicBezTo>
                  <a:pt x="809" y="407"/>
                  <a:pt x="787" y="420"/>
                  <a:pt x="840" y="446"/>
                </a:cubicBezTo>
                <a:cubicBezTo>
                  <a:pt x="858" y="499"/>
                  <a:pt x="856" y="477"/>
                  <a:pt x="856" y="51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2600" y="2489040"/>
            <a:ext cx="2882880" cy="806760"/>
          </a:xfrm>
          <a:custGeom>
            <a:avLst/>
            <a:gdLst/>
            <a:ahLst/>
            <a:rect l="l" t="t" r="r" b="b"/>
            <a:pathLst>
              <a:path w="1816" h="508">
                <a:moveTo>
                  <a:pt x="408" y="0"/>
                </a:moveTo>
                <a:cubicBezTo>
                  <a:pt x="357" y="17"/>
                  <a:pt x="310" y="10"/>
                  <a:pt x="264" y="40"/>
                </a:cubicBezTo>
                <a:cubicBezTo>
                  <a:pt x="240" y="89"/>
                  <a:pt x="224" y="80"/>
                  <a:pt x="168" y="88"/>
                </a:cubicBezTo>
                <a:cubicBezTo>
                  <a:pt x="111" y="107"/>
                  <a:pt x="134" y="95"/>
                  <a:pt x="96" y="120"/>
                </a:cubicBezTo>
                <a:cubicBezTo>
                  <a:pt x="93" y="128"/>
                  <a:pt x="94" y="138"/>
                  <a:pt x="88" y="144"/>
                </a:cubicBezTo>
                <a:cubicBezTo>
                  <a:pt x="82" y="150"/>
                  <a:pt x="69" y="145"/>
                  <a:pt x="64" y="152"/>
                </a:cubicBezTo>
                <a:cubicBezTo>
                  <a:pt x="54" y="166"/>
                  <a:pt x="53" y="184"/>
                  <a:pt x="48" y="200"/>
                </a:cubicBezTo>
                <a:cubicBezTo>
                  <a:pt x="45" y="208"/>
                  <a:pt x="45" y="217"/>
                  <a:pt x="40" y="224"/>
                </a:cubicBezTo>
                <a:cubicBezTo>
                  <a:pt x="35" y="232"/>
                  <a:pt x="28" y="239"/>
                  <a:pt x="24" y="248"/>
                </a:cubicBezTo>
                <a:cubicBezTo>
                  <a:pt x="14" y="271"/>
                  <a:pt x="0" y="320"/>
                  <a:pt x="0" y="320"/>
                </a:cubicBezTo>
                <a:cubicBezTo>
                  <a:pt x="10" y="401"/>
                  <a:pt x="2" y="438"/>
                  <a:pt x="40" y="496"/>
                </a:cubicBezTo>
                <a:cubicBezTo>
                  <a:pt x="176" y="493"/>
                  <a:pt x="351" y="508"/>
                  <a:pt x="496" y="472"/>
                </a:cubicBezTo>
                <a:cubicBezTo>
                  <a:pt x="533" y="447"/>
                  <a:pt x="574" y="451"/>
                  <a:pt x="616" y="440"/>
                </a:cubicBezTo>
                <a:cubicBezTo>
                  <a:pt x="648" y="444"/>
                  <a:pt x="685" y="438"/>
                  <a:pt x="712" y="456"/>
                </a:cubicBezTo>
                <a:cubicBezTo>
                  <a:pt x="720" y="461"/>
                  <a:pt x="720" y="475"/>
                  <a:pt x="728" y="480"/>
                </a:cubicBezTo>
                <a:cubicBezTo>
                  <a:pt x="742" y="489"/>
                  <a:pt x="776" y="496"/>
                  <a:pt x="776" y="496"/>
                </a:cubicBezTo>
                <a:cubicBezTo>
                  <a:pt x="835" y="491"/>
                  <a:pt x="893" y="485"/>
                  <a:pt x="952" y="480"/>
                </a:cubicBezTo>
                <a:cubicBezTo>
                  <a:pt x="964" y="479"/>
                  <a:pt x="972" y="467"/>
                  <a:pt x="984" y="464"/>
                </a:cubicBezTo>
                <a:cubicBezTo>
                  <a:pt x="1002" y="459"/>
                  <a:pt x="1021" y="459"/>
                  <a:pt x="1040" y="456"/>
                </a:cubicBezTo>
                <a:cubicBezTo>
                  <a:pt x="1069" y="446"/>
                  <a:pt x="1100" y="444"/>
                  <a:pt x="1128" y="432"/>
                </a:cubicBezTo>
                <a:cubicBezTo>
                  <a:pt x="1163" y="417"/>
                  <a:pt x="1183" y="394"/>
                  <a:pt x="1224" y="392"/>
                </a:cubicBezTo>
                <a:cubicBezTo>
                  <a:pt x="1312" y="387"/>
                  <a:pt x="1400" y="387"/>
                  <a:pt x="1488" y="384"/>
                </a:cubicBezTo>
                <a:cubicBezTo>
                  <a:pt x="1551" y="363"/>
                  <a:pt x="1622" y="361"/>
                  <a:pt x="1688" y="352"/>
                </a:cubicBezTo>
                <a:cubicBezTo>
                  <a:pt x="1730" y="335"/>
                  <a:pt x="1772" y="323"/>
                  <a:pt x="1816" y="312"/>
                </a:cubicBezTo>
                <a:cubicBezTo>
                  <a:pt x="1816" y="312"/>
                  <a:pt x="1788" y="217"/>
                  <a:pt x="1776" y="208"/>
                </a:cubicBezTo>
                <a:cubicBezTo>
                  <a:pt x="1733" y="175"/>
                  <a:pt x="1639" y="181"/>
                  <a:pt x="1592" y="176"/>
                </a:cubicBezTo>
                <a:cubicBezTo>
                  <a:pt x="1483" y="188"/>
                  <a:pt x="1374" y="216"/>
                  <a:pt x="1264" y="216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373720"/>
            <a:ext cx="2882880" cy="806400"/>
          </a:xfrm>
          <a:custGeom>
            <a:avLst/>
            <a:gdLst/>
            <a:ahLst/>
            <a:rect l="l" t="t" r="r" b="b"/>
            <a:pathLst>
              <a:path w="1816" h="508">
                <a:moveTo>
                  <a:pt x="408" y="0"/>
                </a:moveTo>
                <a:cubicBezTo>
                  <a:pt x="357" y="17"/>
                  <a:pt x="310" y="10"/>
                  <a:pt x="264" y="40"/>
                </a:cubicBezTo>
                <a:cubicBezTo>
                  <a:pt x="240" y="89"/>
                  <a:pt x="224" y="80"/>
                  <a:pt x="168" y="88"/>
                </a:cubicBezTo>
                <a:cubicBezTo>
                  <a:pt x="111" y="107"/>
                  <a:pt x="134" y="95"/>
                  <a:pt x="96" y="120"/>
                </a:cubicBezTo>
                <a:cubicBezTo>
                  <a:pt x="93" y="128"/>
                  <a:pt x="94" y="138"/>
                  <a:pt x="88" y="144"/>
                </a:cubicBezTo>
                <a:cubicBezTo>
                  <a:pt x="82" y="150"/>
                  <a:pt x="69" y="145"/>
                  <a:pt x="64" y="152"/>
                </a:cubicBezTo>
                <a:cubicBezTo>
                  <a:pt x="54" y="166"/>
                  <a:pt x="53" y="184"/>
                  <a:pt x="48" y="200"/>
                </a:cubicBezTo>
                <a:cubicBezTo>
                  <a:pt x="45" y="208"/>
                  <a:pt x="45" y="217"/>
                  <a:pt x="40" y="224"/>
                </a:cubicBezTo>
                <a:cubicBezTo>
                  <a:pt x="35" y="232"/>
                  <a:pt x="28" y="239"/>
                  <a:pt x="24" y="248"/>
                </a:cubicBezTo>
                <a:cubicBezTo>
                  <a:pt x="14" y="271"/>
                  <a:pt x="0" y="320"/>
                  <a:pt x="0" y="320"/>
                </a:cubicBezTo>
                <a:cubicBezTo>
                  <a:pt x="10" y="401"/>
                  <a:pt x="2" y="438"/>
                  <a:pt x="40" y="496"/>
                </a:cubicBezTo>
                <a:cubicBezTo>
                  <a:pt x="176" y="493"/>
                  <a:pt x="351" y="508"/>
                  <a:pt x="496" y="472"/>
                </a:cubicBezTo>
                <a:cubicBezTo>
                  <a:pt x="533" y="447"/>
                  <a:pt x="574" y="451"/>
                  <a:pt x="616" y="440"/>
                </a:cubicBezTo>
                <a:cubicBezTo>
                  <a:pt x="648" y="444"/>
                  <a:pt x="685" y="438"/>
                  <a:pt x="712" y="456"/>
                </a:cubicBezTo>
                <a:cubicBezTo>
                  <a:pt x="720" y="461"/>
                  <a:pt x="720" y="475"/>
                  <a:pt x="728" y="480"/>
                </a:cubicBezTo>
                <a:cubicBezTo>
                  <a:pt x="742" y="489"/>
                  <a:pt x="776" y="496"/>
                  <a:pt x="776" y="496"/>
                </a:cubicBezTo>
                <a:cubicBezTo>
                  <a:pt x="835" y="491"/>
                  <a:pt x="893" y="485"/>
                  <a:pt x="952" y="480"/>
                </a:cubicBezTo>
                <a:cubicBezTo>
                  <a:pt x="964" y="479"/>
                  <a:pt x="972" y="467"/>
                  <a:pt x="984" y="464"/>
                </a:cubicBezTo>
                <a:cubicBezTo>
                  <a:pt x="1002" y="459"/>
                  <a:pt x="1021" y="459"/>
                  <a:pt x="1040" y="456"/>
                </a:cubicBezTo>
                <a:cubicBezTo>
                  <a:pt x="1069" y="446"/>
                  <a:pt x="1100" y="444"/>
                  <a:pt x="1128" y="432"/>
                </a:cubicBezTo>
                <a:cubicBezTo>
                  <a:pt x="1163" y="417"/>
                  <a:pt x="1183" y="394"/>
                  <a:pt x="1224" y="392"/>
                </a:cubicBezTo>
                <a:cubicBezTo>
                  <a:pt x="1312" y="387"/>
                  <a:pt x="1400" y="387"/>
                  <a:pt x="1488" y="384"/>
                </a:cubicBezTo>
                <a:cubicBezTo>
                  <a:pt x="1551" y="363"/>
                  <a:pt x="1622" y="361"/>
                  <a:pt x="1688" y="352"/>
                </a:cubicBezTo>
                <a:cubicBezTo>
                  <a:pt x="1730" y="335"/>
                  <a:pt x="1772" y="323"/>
                  <a:pt x="1816" y="312"/>
                </a:cubicBezTo>
                <a:cubicBezTo>
                  <a:pt x="1816" y="312"/>
                  <a:pt x="1788" y="217"/>
                  <a:pt x="1776" y="208"/>
                </a:cubicBezTo>
                <a:cubicBezTo>
                  <a:pt x="1733" y="175"/>
                  <a:pt x="1639" y="181"/>
                  <a:pt x="1592" y="176"/>
                </a:cubicBezTo>
                <a:cubicBezTo>
                  <a:pt x="1483" y="188"/>
                  <a:pt x="1374" y="216"/>
                  <a:pt x="1264" y="216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9160" y="5275440"/>
            <a:ext cx="1511280" cy="419040"/>
          </a:xfrm>
          <a:custGeom>
            <a:avLst/>
            <a:gdLst/>
            <a:ahLst/>
            <a:rect l="l" t="t" r="r" b="b"/>
            <a:pathLst>
              <a:path w="952" h="264">
                <a:moveTo>
                  <a:pt x="0" y="56"/>
                </a:moveTo>
                <a:cubicBezTo>
                  <a:pt x="54" y="53"/>
                  <a:pt x="118" y="73"/>
                  <a:pt x="160" y="40"/>
                </a:cubicBezTo>
                <a:cubicBezTo>
                  <a:pt x="168" y="34"/>
                  <a:pt x="168" y="21"/>
                  <a:pt x="176" y="16"/>
                </a:cubicBezTo>
                <a:cubicBezTo>
                  <a:pt x="190" y="7"/>
                  <a:pt x="224" y="0"/>
                  <a:pt x="224" y="0"/>
                </a:cubicBezTo>
                <a:cubicBezTo>
                  <a:pt x="367" y="18"/>
                  <a:pt x="498" y="92"/>
                  <a:pt x="640" y="120"/>
                </a:cubicBezTo>
                <a:cubicBezTo>
                  <a:pt x="705" y="115"/>
                  <a:pt x="749" y="122"/>
                  <a:pt x="800" y="88"/>
                </a:cubicBezTo>
                <a:cubicBezTo>
                  <a:pt x="871" y="100"/>
                  <a:pt x="899" y="91"/>
                  <a:pt x="944" y="136"/>
                </a:cubicBezTo>
                <a:cubicBezTo>
                  <a:pt x="952" y="169"/>
                  <a:pt x="952" y="220"/>
                  <a:pt x="912" y="240"/>
                </a:cubicBezTo>
                <a:cubicBezTo>
                  <a:pt x="877" y="258"/>
                  <a:pt x="888" y="248"/>
                  <a:pt x="872" y="264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1765440" cy="2369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9525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2095560" cy="1208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08000" y="404640"/>
            <a:ext cx="5256360" cy="75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050920" y="2004840"/>
            <a:ext cx="2789280" cy="5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73080" y="4765680"/>
            <a:ext cx="2630520" cy="58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859280" y="4797360"/>
            <a:ext cx="26686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48:29Z</dcterms:created>
  <dc:creator>user</dc:creator>
  <dc:description/>
  <dc:language>en-US</dc:language>
  <cp:lastModifiedBy>user</cp:lastModifiedBy>
  <dcterms:modified xsi:type="dcterms:W3CDTF">2009-11-09T15:48:01Z</dcterms:modified>
  <cp:revision>5</cp:revision>
  <dc:subject/>
  <dc:title>Slide 1</dc:title>
</cp:coreProperties>
</file>