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9F57-483A-44F6-8A8F-72A22C832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9A0C-97A4-4B95-8FE3-9AF2D6627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41A3-C259-4A28-8498-EDE8FA7E2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DA77-F260-4D3F-8C4B-29C1B40F7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BC11-1EA7-476A-9BF8-D90E7EC7B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A408-BAAC-42C6-86FD-313FAA527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6CED-7472-46C7-9986-F037EA74B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3FCA-E18E-4F15-93F7-239BD5BE9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3F48-CFDC-4A38-B156-A9A76EF74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52D0-991C-4DCC-8A0A-CA144884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E3EC-5A38-4150-B3BC-2B3BD509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2DDA-F669-4DB8-BA2E-5A06BB1B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2F2E4-541E-445C-BFE1-C216AD51D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de/imgres?imgurl=http://www.arcobaleno-istra.com/images/slap.jpg&amp;imgrefurl=http://www.arcobaleno-istra.com/vrsar-i-okolica.html&amp;h=437&amp;w=601&amp;sz=58&amp;hl=hr&amp;start=1&amp;usg=__rythzelZ0qvKGYm8bnpYw_xEnyQ=&amp;tbnid=QeGMqg1Kvu5_7M:&amp;tbnh=98&amp;tbnw=135&amp;prev=/images%3Fq%3Dslap%26gbv%3D2%26hl%3Dhr%26sa%3D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de/imgres?imgurl=http://www.rtvcazin.ba/sunce.gif&amp;imgrefurl=http://www.rtvcazin.ba/arhiva_radiotv_cazin_71.html&amp;h=265&amp;w=243&amp;sz=4&amp;hl=hr&amp;start=3&amp;usg=__XD0LHZLdwkEHnbIbe9THNLqdOaM=&amp;tbnid=QBXX8EL1nNlIyM:&amp;tbnh=112&amp;tbnw=103&amp;prev=/images%3Fq%3Dsunce%26gbv%3D2%26hl%3Dhr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images.google.de/imgres?imgurl=http://www.javno.com/slike/slike_3/r2/g2008/m08/y31180130842517729.jpg&amp;imgrefurl=http://www.javno.com/hr/sport/clanak.php%3Fid%3D174387&amp;h=369&amp;w=252&amp;sz=20&amp;hl=hr&amp;start=8&amp;usg=__g__LS8HZu0Pu6HqFpNC1nBvDydE=&amp;tbnid=9EXYF71KICOwOM:&amp;tbnh=122&amp;tbnw=83&amp;prev=/images%3Fq%3Dbaca%25C4%258D%2Bkoplja%26gbv%3D2%26hl%3Dhr" TargetMode="Externa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de/imgres?imgurl=http://gdestinacija.com/wp-content/uploads/photos/hrana.jpg&amp;imgrefurl=http://gdestinacija.com/2007/09/14/made-in-china/&amp;h=383&amp;w=500&amp;sz=51&amp;hl=hr&amp;start=6&amp;usg=__E3LDQBD1AmUmekXp-tNhDo7hyDE=&amp;tbnid=OhXuJfD7sruXcM:&amp;tbnh=100&amp;tbnw=130&amp;prev=/images%3Fq%3Dhrana%26gbv%3D2%26hl%3Dhr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de/imgres?imgurl=http://www.corbis.hr/img/repository/2007/10/web_image/zww1202.jpg&amp;imgrefurl=http://www.corbis.hr/proizvodi/bijela-tehnika/perilice-rublja/zanussi-perilica-rublja-zww-1202&amp;h=370&amp;w=300&amp;sz=15&amp;hl=hr&amp;start=16&amp;usg=__54j4pgq6h4wftfukbZ_0hDBwmoY=&amp;tbnid=sUYdLAhLseUUxM:&amp;tbnh=122&amp;tbnw=99&amp;prev=/images%3Fq%3Dperilica%26gbv%3D2%26hl%3Dhr%26sa%3DG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de/imgres?imgurl=http://www.tmbanovici.com/images/kvarcna_grijalica_radi.jpg&amp;imgrefurl=http://www.tmbanovici.com/%3Fizbor%3D6&amp;h=289&amp;w=400&amp;sz=12&amp;hl=hr&amp;start=3&amp;usg=__6EGEXuABjZlAZjiaCG-dtcbNjZI=&amp;tbnid=yZdPcb7jl7uuvM:&amp;tbnh=90&amp;tbnw=124&amp;prev=/images%3Fq%3Dgrijalica%26gbv%3D2%26hl%3Dhr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images.google.de/imgres?imgurl=http://www.vega2000.hr/slike/velike/tefal-mikser-8141-803021_1.jpg&amp;imgrefurl=http://www.vega2000.hr/artikl.asp%3Fitem%3Dtefal-mikser-8141%26code%3D803021%26cat%3Dkucanski-aparati&amp;h=500&amp;w=500&amp;sz=19&amp;hl=hr&amp;start=1&amp;usg=__so1EEj9ocnaqBEAxDsYfxrrPGzk=&amp;tbnid=v9MlCIq4_z7uXM:&amp;tbnh=130&amp;tbnw=130&amp;prev=/images%3Fq%3Dmikser%26gbv%3D2%26hl%3Dhr%26sa%3DG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images.google.de/imgres?imgurl=http://www.tez.hr/_gui/katalog/zarna/rezista.jpg&amp;imgrefurl=http://www.tez.hr/_hr/katalog/zarna_nit/rezista/&amp;h=365&amp;w=365&amp;sz=12&amp;hl=hr&amp;start=1&amp;usg=__XA1GMy7DKP0BdI3wxTVNK3c0A2k=&amp;tbnid=bMeE_8abv9-QfM:&amp;tbnh=121&amp;tbnw=121&amp;prev=/images%3Fq%3D%25C5%25BEarulja%26gbv%3D2%26hl%3Dhr%26sa%3DG" TargetMode="External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10560" y="480960"/>
            <a:ext cx="62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AD NAM JE NETKO DRAG, KAŽEMO MU “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UNCE MOJE!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83640" y="3505320"/>
            <a:ext cx="617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JUDI SU ODAVNO SHVATILI DA JE SUNCE DRAGOCJ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13840" y="4586400"/>
            <a:ext cx="563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..JER SUNCE JE ZVIJEZDA I NAJVEĆI IZVOR ENERG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771640" y="765000"/>
            <a:ext cx="32101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154560" y="2494080"/>
            <a:ext cx="865440" cy="50328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9512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NERGIJA I NJEZINI OBL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70040" y="843120"/>
            <a:ext cx="13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omic Sans MS"/>
              </a:rPr>
              <a:t>ENERGIJ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1480" y="1130400"/>
            <a:ext cx="498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mic Sans MS"/>
              </a:rPr>
              <a:t>-sposobnost nekog tijela ili tvari da obavi r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05600" y="1347840"/>
            <a:ext cx="344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mic Sans MS"/>
              </a:rPr>
              <a:t>-sva energija potječe od Sun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26040" y="1563840"/>
            <a:ext cx="54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mic Sans MS"/>
              </a:rPr>
              <a:t>-ne može se uništiti, može samo promijeniti obl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95640" y="2781360"/>
            <a:ext cx="208908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7840" y="2570040"/>
            <a:ext cx="289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VODA + UGLJIKOV DIOKS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293160" y="2570040"/>
            <a:ext cx="164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ŠEĆER   + KISI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0680" y="2066760"/>
            <a:ext cx="157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omic Sans MS"/>
              </a:rPr>
              <a:t>Fotosintez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10600" y="2138400"/>
            <a:ext cx="233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UNČEVA SVJETLOST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KLOROF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68440" y="307512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mic Sans MS"/>
              </a:rPr>
              <a:t>ENERGI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4932360" y="5516640"/>
            <a:ext cx="647640" cy="648720"/>
            <a:chOff x="4932360" y="5516640"/>
            <a:chExt cx="647640" cy="648720"/>
          </a:xfrm>
        </p:grpSpPr>
        <p:sp>
          <p:nvSpPr>
            <p:cNvPr id="58" name=""/>
            <p:cNvSpPr/>
            <p:nvPr/>
          </p:nvSpPr>
          <p:spPr>
            <a:xfrm>
              <a:off x="4932360" y="5516640"/>
              <a:ext cx="647640" cy="6487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rot="5400000">
            <a:off x="6658920" y="3069360"/>
            <a:ext cx="288720" cy="144720"/>
          </a:xfrm>
          <a:custGeom>
            <a:avLst/>
            <a:gdLst>
              <a:gd name="textAreaLeft" fmla="*/ 96120 w 288720"/>
              <a:gd name="textAreaRight" fmla="*/ 247320 w 288720"/>
              <a:gd name="textAreaTop" fmla="*/ 83520 h 144720"/>
              <a:gd name="textAreaBottom" fmla="*/ 124200 h 144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78000" y="4873680"/>
            <a:ext cx="123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BLI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ERG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52440" y="4154400"/>
            <a:ext cx="12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MIJS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06000" y="6026040"/>
            <a:ext cx="15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HANIČ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87720" y="3433680"/>
            <a:ext cx="120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N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932800" y="5162400"/>
            <a:ext cx="140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PLINS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78200" y="6221520"/>
            <a:ext cx="150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KTRIČ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17400" y="5157720"/>
            <a:ext cx="17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CIJAL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05360" y="415440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INETIČ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500720" y="4076280"/>
            <a:ext cx="0" cy="7923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5076720" y="4436640"/>
            <a:ext cx="574920" cy="5763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19640" y="5300640"/>
            <a:ext cx="64764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3419280" y="4508640"/>
            <a:ext cx="647640" cy="5047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419640" y="5300640"/>
            <a:ext cx="50472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00720" y="5445000"/>
            <a:ext cx="0" cy="7923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492360" y="5445000"/>
            <a:ext cx="648000" cy="6494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37240" y="609768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VJETLOS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4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80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60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40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80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2708280"/>
            <a:ext cx="2089440" cy="1511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64000" y="2492280"/>
            <a:ext cx="1590480" cy="17287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332000" y="2205000"/>
            <a:ext cx="1368360" cy="2016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079280" y="4513320"/>
            <a:ext cx="195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OTENCIJAL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ERG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54080" y="4226040"/>
            <a:ext cx="126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ERG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UN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309000" y="4513320"/>
            <a:ext cx="141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KINETIČ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ERG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64000" y="2276640"/>
            <a:ext cx="1728720" cy="13395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760720" y="4081320"/>
            <a:ext cx="195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OTENCIJAL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ERG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340280" y="4010040"/>
            <a:ext cx="141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KINETIČ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ERG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24280" y="401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KEMIJS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ERG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5796000" y="1916280"/>
            <a:ext cx="1800360" cy="1747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900000" y="1844640"/>
            <a:ext cx="216072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1197000"/>
            <a:ext cx="1739880" cy="2141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3564000" y="1916280"/>
            <a:ext cx="1871640" cy="1114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083600" y="336240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LEKTRIČ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ERG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604680" y="3433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LEKTRIČ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ERG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81040" y="3433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LEKTRIČ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ERG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66960" y="4370400"/>
            <a:ext cx="179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HANIČKA 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OPLINSK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ERG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650040" y="4441680"/>
            <a:ext cx="15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OPLINSK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ERG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26760" y="4441680"/>
            <a:ext cx="15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OPLINSK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ERG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92360" y="4005360"/>
            <a:ext cx="287280" cy="360360"/>
          </a:xfrm>
          <a:prstGeom prst="downArrow">
            <a:avLst>
              <a:gd name="adj1" fmla="val 50000"/>
              <a:gd name="adj2" fmla="val 313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4076640"/>
            <a:ext cx="287280" cy="360360"/>
          </a:xfrm>
          <a:prstGeom prst="downArrow">
            <a:avLst>
              <a:gd name="adj1" fmla="val 50000"/>
              <a:gd name="adj2" fmla="val 313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588000" y="4076640"/>
            <a:ext cx="287640" cy="360360"/>
          </a:xfrm>
          <a:prstGeom prst="downArrow">
            <a:avLst>
              <a:gd name="adj1" fmla="val 50000"/>
              <a:gd name="adj2" fmla="val 313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5796000" y="1844640"/>
            <a:ext cx="180972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35280" y="1628640"/>
            <a:ext cx="1871640" cy="13557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42920" y="1197000"/>
            <a:ext cx="2016360" cy="2016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156360" y="1557360"/>
            <a:ext cx="1657440" cy="16574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156680" y="321804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LEKTRIČ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ERG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49040" y="328932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LEKTRIČ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ERG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268320" y="336240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LEKTRIČ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ERG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94760" y="4370400"/>
            <a:ext cx="15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OPLINSK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ERG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271200" y="4441680"/>
            <a:ext cx="16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OPLINSKA 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VJETLOS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ERG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14920" y="4297320"/>
            <a:ext cx="164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HANIČK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ERG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63640" y="3933720"/>
            <a:ext cx="287280" cy="360360"/>
          </a:xfrm>
          <a:prstGeom prst="downArrow">
            <a:avLst>
              <a:gd name="adj1" fmla="val 50000"/>
              <a:gd name="adj2" fmla="val 313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56000" y="4005360"/>
            <a:ext cx="287280" cy="360360"/>
          </a:xfrm>
          <a:prstGeom prst="downArrow">
            <a:avLst>
              <a:gd name="adj1" fmla="val 50000"/>
              <a:gd name="adj2" fmla="val 313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77080" y="4076640"/>
            <a:ext cx="287280" cy="360360"/>
          </a:xfrm>
          <a:prstGeom prst="downArrow">
            <a:avLst>
              <a:gd name="adj1" fmla="val 50000"/>
              <a:gd name="adj2" fmla="val 313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5T10:19:20Z</dcterms:created>
  <dc:creator>user</dc:creator>
  <dc:description/>
  <dc:language>en-US</dc:language>
  <cp:lastModifiedBy>user</cp:lastModifiedBy>
  <dcterms:modified xsi:type="dcterms:W3CDTF">2009-11-09T17:57:20Z</dcterms:modified>
  <cp:revision>13</cp:revision>
  <dc:subject/>
  <dc:title>Slide 1</dc:title>
</cp:coreProperties>
</file>