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58A-9913-4268-A618-2078012F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962-908F-441E-BFAD-7FDF8451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F49-4521-4A59-80DC-8AF19DC6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BEE-9EE1-49A0-8BC0-B139A17B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675-B574-4E94-A656-25C133C1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E3C-355C-417D-990A-BAAEF950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7FB-C1BB-437B-8ECE-6F6B3B79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349-DB6E-4604-81EA-3CE0BD45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7A2-03C8-40B4-99DA-E5769553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389-16F1-4DD8-810A-F331E983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AAD-6109-42B5-B387-4F409839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D47-DCB9-42F4-B567-E14EDEE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88AF-8729-44F8-8B93-150D6B42701E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ŽIVOTINJE KONTINENTALNE LISTOPADNE ŠU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963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654240" y="6308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daždevn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4320" y="631044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je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13920" y="18446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šumski mr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7760" y="62064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ŽIVOTINJSKI SVI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PRIZEMNOG SL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60960" y="2492280"/>
            <a:ext cx="2533680" cy="3745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5364000" cy="354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12000" y="189000"/>
            <a:ext cx="24476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447320" y="577044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ž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99480" y="577044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sljep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9360" y="5445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guš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560" y="270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gujav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4120" y="306864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u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227640" y="1727280"/>
            <a:ext cx="2916360" cy="210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78080" y="37162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z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916360" cy="151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916360" y="3657600"/>
            <a:ext cx="3168360" cy="217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2847960" cy="2009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843280" y="1123920"/>
            <a:ext cx="3170160" cy="1946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0" y="404640"/>
            <a:ext cx="26272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3534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01760" y="350028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li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1800" y="338472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slavu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2160" y="64911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lavetna sje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32120" y="641988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s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ŽIVOTINJSKI SVIJET SLOJA GRML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80000" y="3789360"/>
            <a:ext cx="211140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98480" y="1268280"/>
            <a:ext cx="3354480" cy="218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004760" y="4192560"/>
            <a:ext cx="2934000" cy="2187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937040" y="1268280"/>
            <a:ext cx="346068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63640" y="952560"/>
            <a:ext cx="1882800" cy="1757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2316240" cy="1590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3384720" cy="221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859280" y="3357720"/>
            <a:ext cx="2952720" cy="222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25080" y="27097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crni k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71960" y="270972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crvend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91960" y="5686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medvj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67120" y="56610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divlja svi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108000"/>
            <a:ext cx="78483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721120" y="2421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otkorn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1355760" cy="201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59840" y="30686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gu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9240" y="260280"/>
            <a:ext cx="71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ŽIVOTINJSKI SVIJET SLOJA DRVEĆ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82080" y="616572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hrastova strizib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7280" y="63086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jele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24360" y="907920"/>
            <a:ext cx="1283040" cy="158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0" y="2924280"/>
            <a:ext cx="4429080" cy="3314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84360" y="3573360"/>
            <a:ext cx="338436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50000">
              <a:srgbClr val="ffffff"/>
            </a:gs>
            <a:gs pos="100000">
              <a:srgbClr val="fbdf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59520" y="3357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k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29280" y="6491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vjev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60560" y="6491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ž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2506680" cy="314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416040" cy="266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3274920" cy="265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476360" y="260280"/>
            <a:ext cx="1649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4:31:45Z</dcterms:created>
  <dc:creator>user</dc:creator>
  <dc:description/>
  <dc:language>en-US</dc:language>
  <cp:lastModifiedBy>user</cp:lastModifiedBy>
  <dcterms:modified xsi:type="dcterms:W3CDTF">2009-11-09T15:49:38Z</dcterms:modified>
  <cp:revision>8</cp:revision>
  <dc:subject/>
  <dc:title>Slide 1</dc:title>
</cp:coreProperties>
</file>