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0B8-DC45-4C93-9AC5-857261D8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48D-25F1-4B93-BB9E-0269C98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72A-B510-4829-8731-31A2A1E6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CFE-1865-4403-B0D5-7820E696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29C-CC53-4FF2-811E-6468949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56D-5894-4B8E-8511-F9F40FC8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24D-AE7D-48E4-AA58-0D61354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DBB-593B-4D11-9D05-675E5C1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002-B4E4-48BC-A21B-B405B8F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EE6-B068-48D9-85C2-37ED343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508-FCAD-4481-8BDE-317A737D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0AD-7579-43E0-B321-0848087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B54-AA65-49DB-B77B-C52D7EE3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2275200" cy="295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1916280"/>
            <a:ext cx="91440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jese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211608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00920" y="357336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42320" y="479736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LISTOPADNA Š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Osnovna obilježja kontinentalne listopadne š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64120" y="1600200"/>
            <a:ext cx="32068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ZAŠTO LIŠĆE OTP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43560" y="62373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opadna šuma z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23560" y="61657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opadna šuma u j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64120" y="1600200"/>
            <a:ext cx="32068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e9eb"/>
            </a:gs>
            <a:gs pos="50000">
              <a:srgbClr val="ffffff"/>
            </a:gs>
            <a:gs pos="100000">
              <a:srgbClr val="cfe9e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lagodbe na zim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bacivanje lišća – prilagodba za čuvanje vode(zimi tlo smrzn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bela kora štiti od niskih temperatura i isuš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ni i cvjetni pupovi zaštićeni ljuskama od smrz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ljaste biljke prezimljuju u obliku podzemnih stablj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73000" y="1600200"/>
            <a:ext cx="320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Što prekriva šumsko t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gradnjom otpalog lišća na šumskom tlu nastaje h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0384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2920" y="154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nadzemna slojevit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66280" y="37209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sloj prizemnog bi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95360" y="32162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sloj gr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9400" y="134460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sloj drve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72120" y="407988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sloj korijenja prizemnog bi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1560" y="429588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sloj korijenja gr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15240" y="4800600"/>
            <a:ext cx="27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sloj korijenja drve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4880" y="5546880"/>
            <a:ext cx="28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podzemna slojevit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7080" y="1417680"/>
            <a:ext cx="1309680" cy="198360"/>
          </a:xfrm>
          <a:prstGeom prst="leftArrow">
            <a:avLst>
              <a:gd name="adj1" fmla="val 50000"/>
              <a:gd name="adj2" fmla="val 1650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2360" y="3289320"/>
            <a:ext cx="1111320" cy="198360"/>
          </a:xfrm>
          <a:prstGeom prst="leftArrow">
            <a:avLst>
              <a:gd name="adj1" fmla="val 50000"/>
              <a:gd name="adj2" fmla="val 1400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7760" y="3794040"/>
            <a:ext cx="457200" cy="198360"/>
          </a:xfrm>
          <a:prstGeom prst="leftArrow">
            <a:avLst>
              <a:gd name="adj1" fmla="val 50000"/>
              <a:gd name="adj2" fmla="val 5762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6480" y="4154400"/>
            <a:ext cx="458640" cy="196920"/>
          </a:xfrm>
          <a:prstGeom prst="leftArrow">
            <a:avLst>
              <a:gd name="adj1" fmla="val 50000"/>
              <a:gd name="adj2" fmla="val 58227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79880" y="4873680"/>
            <a:ext cx="1765080" cy="196920"/>
          </a:xfrm>
          <a:prstGeom prst="leftArrow">
            <a:avLst>
              <a:gd name="adj1" fmla="val 50000"/>
              <a:gd name="adj2" fmla="val 224086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41600" y="4370400"/>
            <a:ext cx="1505160" cy="196920"/>
          </a:xfrm>
          <a:prstGeom prst="leftArrow">
            <a:avLst>
              <a:gd name="adj1" fmla="val 50000"/>
              <a:gd name="adj2" fmla="val 191088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5160" y="616572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olja iskorištenost prostora i životnih uvj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828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 čemu je razl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349360"/>
            <a:ext cx="4038480" cy="302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vijetle šume –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rastove š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jenovite š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bukove š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4:48:36Z</dcterms:created>
  <dc:creator>user</dc:creator>
  <dc:description/>
  <dc:language>en-US</dc:language>
  <cp:lastModifiedBy>user</cp:lastModifiedBy>
  <dcterms:modified xsi:type="dcterms:W3CDTF">2009-11-09T15:49:09Z</dcterms:modified>
  <cp:revision>5</cp:revision>
  <dc:subject/>
  <dc:title>Slide 1</dc:title>
</cp:coreProperties>
</file>