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5F53-166D-4002-AD33-9B1C5F8B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E230-F177-4150-93ED-20B45B0D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8B0D-93B6-44AD-A32D-57173D878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2DB2-EA8C-4546-8A9B-B9A7C2A10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D578-DB8D-45F5-B712-1066973E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C881-32CE-481B-B24A-03A8A111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A5E4-BB60-490B-BB01-06507BD4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657A-AA4D-4A2D-8340-97A6E226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AE63-0E44-4422-A124-173971EF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9434-1707-4E5A-A850-18CEB644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6ADE-9159-490A-9F87-AE7C2CCF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4EDC-FF0A-4F8F-B503-7D9CEDD8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6DE7-D2A8-42E5-8C57-E57B280E8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1844640"/>
          <a:ext cx="2663640" cy="23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44640"/>
                    <a:ext cx="266364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6012000" y="1844640"/>
          <a:ext cx="2736720" cy="234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1844640"/>
                    <a:ext cx="273672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3274920" y="1844640"/>
          <a:ext cx="2592360" cy="240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4920" y="1844640"/>
                    <a:ext cx="2592360" cy="24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460440" y="333360"/>
            <a:ext cx="15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D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3880" y="4797360"/>
            <a:ext cx="489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nastanjuju samo jedno određeno područ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133800" y="1917720"/>
          <a:ext cx="2592360" cy="229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3800" y="1917720"/>
                    <a:ext cx="2592360" cy="22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252360" y="1917720"/>
          <a:ext cx="2521080" cy="22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2360" y="1917720"/>
                    <a:ext cx="252108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6084720" y="1844640"/>
          <a:ext cx="2737080" cy="234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84720" y="1844640"/>
                    <a:ext cx="273708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37760" y="404640"/>
            <a:ext cx="14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IK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1280" y="4868280"/>
            <a:ext cx="32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stare, nepromijenjene v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3261960" y="328680"/>
            <a:ext cx="2206800" cy="1640160"/>
            <a:chOff x="3261960" y="328680"/>
            <a:chExt cx="2206800" cy="1640160"/>
          </a:xfrm>
        </p:grpSpPr>
        <p:sp>
          <p:nvSpPr>
            <p:cNvPr id="58" name=""/>
            <p:cNvSpPr/>
            <p:nvPr/>
          </p:nvSpPr>
          <p:spPr>
            <a:xfrm>
              <a:off x="4365360" y="328680"/>
              <a:ext cx="0" cy="164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997800" y="328680"/>
              <a:ext cx="73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07120" y="1641240"/>
              <a:ext cx="735480" cy="16344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88120" y="1641240"/>
              <a:ext cx="735480" cy="16236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3507120" y="328680"/>
              <a:ext cx="490320" cy="131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997800" y="328680"/>
              <a:ext cx="245160" cy="131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4487760" y="328680"/>
              <a:ext cx="245160" cy="131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733280" y="328680"/>
              <a:ext cx="490320" cy="131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507120" y="1968840"/>
              <a:ext cx="171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61960" y="1313640"/>
              <a:ext cx="980640" cy="3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Comic Sans MS"/>
                </a:rPr>
                <a:t>PRIRO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88120" y="1313640"/>
              <a:ext cx="980640" cy="3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Comic Sans MS"/>
                </a:rPr>
                <a:t>ČOVJE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50920" y="2348640"/>
            <a:ext cx="36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Život u suglasju s priro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81200" y="393372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L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37000" y="573408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51400" y="4797360"/>
            <a:ext cx="7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46840" y="393372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ZUMJETI, ZN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51520" y="486900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SJEĆ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65640" y="5805360"/>
            <a:ext cx="8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ČIN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24360" y="3860640"/>
            <a:ext cx="571320" cy="5716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24360" y="4797360"/>
            <a:ext cx="571320" cy="571680"/>
          </a:xfrm>
          <a:custGeom>
            <a:avLst/>
            <a:gdLst>
              <a:gd name="textAreaLeft" fmla="*/ 134280 w 571320"/>
              <a:gd name="textAreaRight" fmla="*/ 436680 w 571320"/>
              <a:gd name="textAreaTop" fmla="*/ 66960 h 571680"/>
              <a:gd name="textAreaBottom" fmla="*/ 358560 h 5716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780000" y="5661000"/>
            <a:ext cx="1056960" cy="714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70920" y="328464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ATEGI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50000" y="2276640"/>
            <a:ext cx="39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sigurati suvremeni način življen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ma zakonima  prir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2565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928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8T13:03:12Z</dcterms:created>
  <dc:creator>user</dc:creator>
  <dc:description/>
  <dc:language>en-US</dc:language>
  <cp:lastModifiedBy>user</cp:lastModifiedBy>
  <dcterms:modified xsi:type="dcterms:W3CDTF">2009-08-28T13:14:20Z</dcterms:modified>
  <cp:revision>2</cp:revision>
  <dc:subject/>
  <dc:title>Slide 1</dc:title>
</cp:coreProperties>
</file>