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2590-B33A-421A-98DA-AA1B44A2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F88E-7C01-440F-9932-30488D60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4AE6-D068-4C86-81EB-B56B47D2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283-9592-4888-A6F8-5C46FF47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7F9-C2EE-4B8B-9CE6-4302DEF7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CE0C-CF82-4DC5-8445-CA5B3F32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1460-262B-456C-A3E0-09FA90B6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280-38FA-438D-B836-FC31C917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930B-A692-4B11-8C34-3398DD4D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6DD7-45E1-48FC-A513-EEB8B2F9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6E82-BDBA-4F1D-9182-4065BD96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16D-C8FA-483F-BA26-B1526966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0195-4B06-4E15-A4C3-F115A87FA135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NERGIJA SUN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08000" y="1341360"/>
            <a:ext cx="543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Svemir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 – nastao prije 13-15 milijardi godina velikim pras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Sunčev sustav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 – Sunce i osam planeta, razni asteroidi i kom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Su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izvor svjetlosne i toplinske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izvor gotovo sve raspoložive energije na Zeml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obnovljiv izvor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Načini kojima čovjek koristi Sunčevu energiju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sunčani kolektori ili skupljači(zagrijavanje v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fotostanice(pretvaraju svjetlosnu energiju u električnu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4840" y="5589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sunčani kolek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0351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99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88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4175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165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9725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6375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445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29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3:55:53Z</dcterms:created>
  <dc:creator>user</dc:creator>
  <dc:description/>
  <dc:language>en-US</dc:language>
  <cp:lastModifiedBy>user</cp:lastModifiedBy>
  <dcterms:modified xsi:type="dcterms:W3CDTF">2009-11-10T11:08:35Z</dcterms:modified>
  <cp:revision>3</cp:revision>
  <dc:subject/>
  <dc:title>Slide 1</dc:title>
</cp:coreProperties>
</file>